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6.wmf" ContentType="image/x-wmf"/>
  <Override PartName="/ppt/media/image125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5.jpeg" ContentType="image/jpeg"/>
  <Override PartName="/ppt/media/image134.wmf" ContentType="image/x-wmf"/>
  <Override PartName="/ppt/media/image114.wmf" ContentType="image/x-wmf"/>
  <Override PartName="/ppt/media/image113.wmf" ContentType="image/x-wmf"/>
  <Override PartName="/ppt/media/image46.png" ContentType="image/png"/>
  <Override PartName="/ppt/media/image112.wmf" ContentType="image/x-wmf"/>
  <Override PartName="/ppt/media/image111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34.png" ContentType="image/png"/>
  <Override PartName="/ppt/media/image99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124.png" ContentType="image/png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116.png" ContentType="image/png"/>
  <Override PartName="/ppt/media/image87.wmf" ContentType="image/x-wmf"/>
  <Override PartName="/ppt/media/image19.wmf" ContentType="image/x-wmf"/>
  <Override PartName="/ppt/media/image79.wmf" ContentType="image/x-wmf"/>
  <Override PartName="/ppt/media/image7.wmf" ContentType="image/x-wmf"/>
  <Override PartName="/ppt/media/image84.wmf" ContentType="image/x-wmf"/>
  <Override PartName="/ppt/media/image37.wmf" ContentType="image/x-wmf"/>
  <Override PartName="/ppt/media/image109.wmf" ContentType="image/x-wmf"/>
  <Override PartName="/ppt/media/image105.wmf" ContentType="image/x-wmf"/>
  <Override PartName="/ppt/media/image51.png" ContentType="image/png"/>
  <Override PartName="/ppt/media/image49.wmf" ContentType="image/x-wmf"/>
  <Override PartName="/ppt/media/image143.png" ContentType="image/png"/>
  <Override PartName="/ppt/media/image100.wmf" ContentType="image/x-wmf"/>
  <Override PartName="/ppt/media/image38.wmf" ContentType="image/x-wmf"/>
  <Override PartName="/ppt/media/image40.png" ContentType="image/png"/>
  <Override PartName="/ppt/media/image13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106.wmf" ContentType="image/x-wmf"/>
  <Override PartName="/ppt/media/image149.png" ContentType="image/png"/>
  <Override PartName="/ppt/media/image52.png" ContentType="image/png"/>
  <Override PartName="/ppt/media/image39.wmf" ContentType="image/x-wmf"/>
  <Override PartName="/ppt/media/image41.png" ContentType="image/png"/>
  <Override PartName="/ppt/media/image11.wmf" ContentType="image/x-wmf"/>
  <Override PartName="/ppt/media/image108.wmf" ContentType="image/x-wmf"/>
  <Override PartName="/ppt/media/image36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142.wmf" ContentType="image/x-wmf"/>
  <Override PartName="/ppt/media/image50.wmf" ContentType="image/x-wmf"/>
  <Override PartName="/ppt/media/image147.wmf" ContentType="image/x-wmf"/>
  <Override PartName="/ppt/media/image144.wmf" ContentType="image/x-wmf"/>
  <Override PartName="/ppt/media/image53.wmf" ContentType="image/x-wmf"/>
  <Override PartName="/ppt/media/image141.wmf" ContentType="image/x-wmf"/>
  <Override PartName="/ppt/media/image55.wmf" ContentType="image/x-wmf"/>
  <Override PartName="/ppt/media/image98.png" ContentType="image/png"/>
  <Override PartName="/ppt/media/image148.wmf" ContentType="image/x-wmf"/>
  <Override PartName="/ppt/media/image150.wmf" ContentType="image/x-wmf"/>
  <Override PartName="/ppt/media/image138.wmf" ContentType="image/x-wmf"/>
  <Override PartName="/ppt/media/image145.wmf" ContentType="image/x-wmf"/>
  <Override PartName="/ppt/media/image152.wmf" ContentType="image/x-wmf"/>
  <Override PartName="/ppt/media/image146.wmf" ContentType="image/x-wmf"/>
  <Override PartName="/ppt/media/image140.wmf" ContentType="image/x-wmf"/>
  <Override PartName="/ppt/media/image54.wmf" ContentType="image/x-wmf"/>
  <Override PartName="/ppt/media/image35.wmf" ContentType="image/x-wmf"/>
  <Override PartName="/ppt/media/image158.wmf" ContentType="image/x-wmf"/>
  <Override PartName="/ppt/media/image61.wmf" ContentType="image/x-wmf"/>
  <Override PartName="/ppt/media/image137.wmf" ContentType="image/x-wmf"/>
  <Override PartName="/ppt/media/image6.png" ContentType="image/png"/>
  <Override PartName="/ppt/media/image136.wmf" ContentType="image/x-wmf"/>
  <Override PartName="/ppt/media/image135.png" ContentType="image/png"/>
  <Override PartName="/ppt/media/image10.wmf" ContentType="image/x-wmf"/>
  <Override PartName="/ppt/media/image107.wmf" ContentType="image/x-wmf"/>
  <Override PartName="/ppt/media/image47.wmf" ContentType="image/x-wmf"/>
  <Override PartName="/ppt/media/image133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132.wmf" ContentType="image/x-wmf"/>
  <Override PartName="/ppt/media/image129.png" ContentType="image/png"/>
  <Override PartName="/ppt/media/image154.wmf" ContentType="image/x-wmf"/>
  <Override PartName="/ppt/media/image2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4.wmf" ContentType="image/x-wmf"/>
  <Override PartName="/ppt/media/image82.wmf" ContentType="image/x-wmf"/>
  <Override PartName="/ppt/media/image156.wmf" ContentType="image/x-wmf"/>
  <Override PartName="/ppt/media/image4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12.wmf" ContentType="image/x-wmf"/>
  <Override PartName="/ppt/media/image80.wmf" ContentType="image/x-wmf"/>
  <Override PartName="/ppt/media/image32.wmf" ContentType="image/x-wmf"/>
  <Override PartName="/ppt/media/image93.wmf" ContentType="image/x-wmf"/>
  <Override PartName="/ppt/media/image25.wmf" ContentType="image/x-wmf"/>
  <Override PartName="/ppt/media/image31.wmf" ContentType="image/x-wmf"/>
  <Override PartName="/ppt/media/image9.wmf" ContentType="image/x-wmf"/>
  <Override PartName="/ppt/media/image92.wmf" ContentType="image/x-wmf"/>
  <Override PartName="/ppt/media/image24.wmf" ContentType="image/x-wmf"/>
  <Override PartName="/ppt/media/image56.wmf" ContentType="image/x-wmf"/>
  <Override PartName="/ppt/media/image151.wmf" ContentType="image/x-wmf"/>
  <Override PartName="/ppt/media/image16.png" ContentType="image/png"/>
  <Override PartName="/ppt/media/image81.png" ContentType="image/png"/>
  <Override PartName="/ppt/media/image48.jpeg" ContentType="image/jpeg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26.wmf" ContentType="image/x-wmf"/>
  <Override PartName="/ppt/media/image94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E0C6-5421-4E5F-90D7-88497A049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7830-E696-4B11-8222-54A986D63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EEBA-2BCF-4396-97B9-D43791CBD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CE94-9DF2-480B-8846-6E5D25D0C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B434-0433-4751-8D4A-4B1EE99DA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4C04-1022-4BFA-B960-ED0A1467F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4793-8872-4951-A6DE-A4BA308E26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6F2-0A04-4D7B-AAAB-F96CAFB18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DD87-A327-4258-94CE-8C38FD5BD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4A16D-ACCE-48F8-AB87-DA86E2015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4E86-E0CC-4133-BCFB-5729717D0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F80-CBE0-491C-A024-B41FEDFE2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BF4E-765A-45F7-AF26-F6A32571A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C59-4534-40B2-A82B-BB1A14944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ABD1-FB0E-4DB6-8C40-0748FE8FE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9E36-A1D3-44AE-9FD3-91B62EABA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84AD-82AF-4DE4-A71D-3352139ED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7E8B-FF7C-4521-B57B-49CC47E23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269A-BC89-4A6D-9219-EFB30F6D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AAD5-96DC-4B55-8844-C34B8C1B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D61D-8304-4125-851F-8789F031B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8745-C587-4741-8B9F-41120F5E4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6579-037E-447D-871A-0EC8AD5CF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54FC-AFB3-4AC3-9677-713EDF011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23E2-F6E8-4D37-A106-9819D6F0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CE07-12FB-4CD4-930C-ECA64AC9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2794-4250-4599-AD2C-8504C578D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C89-E90B-46B5-AB2E-A9ACB025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648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8560" y="16761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40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648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8560" y="4183560"/>
            <a:ext cx="247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400" y="38052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58200" y="41835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58200" y="1676160"/>
            <a:ext cx="3755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4183560"/>
            <a:ext cx="76960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1" descr="E:\Borders\BorderLandscape\BDRLC032.WM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reestyle Scrip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1" marL="527400" indent="-20268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2" marL="81144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3" marL="113580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4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5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  <a:p>
            <a:pPr lvl="6" marL="1460520" indent="-162000">
              <a:spcBef>
                <a:spcPts val="1199"/>
              </a:spcBef>
              <a:buClr>
                <a:srgbClr val="000000"/>
              </a:buClr>
              <a:buFont typeface="Freestyle Scrip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reestyle Scrip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wmf"/><Relationship Id="rId4" Type="http://schemas.openxmlformats.org/officeDocument/2006/relationships/image" Target="../media/image80.wmf"/><Relationship Id="rId5" Type="http://schemas.openxmlformats.org/officeDocument/2006/relationships/image" Target="../media/image81.png"/><Relationship Id="rId6" Type="http://schemas.openxmlformats.org/officeDocument/2006/relationships/image" Target="../media/image8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image" Target="../media/image92.wmf"/><Relationship Id="rId5" Type="http://schemas.openxmlformats.org/officeDocument/2006/relationships/image" Target="../media/image93.wmf"/><Relationship Id="rId6" Type="http://schemas.openxmlformats.org/officeDocument/2006/relationships/image" Target="../media/image9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image" Target="../media/image96.wmf"/><Relationship Id="rId3" Type="http://schemas.openxmlformats.org/officeDocument/2006/relationships/image" Target="../media/image97.wmf"/><Relationship Id="rId4" Type="http://schemas.openxmlformats.org/officeDocument/2006/relationships/image" Target="../media/image98.png"/><Relationship Id="rId5" Type="http://schemas.openxmlformats.org/officeDocument/2006/relationships/image" Target="../media/image99.wmf"/><Relationship Id="rId6" Type="http://schemas.openxmlformats.org/officeDocument/2006/relationships/image" Target="../media/image10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7.wmf"/><Relationship Id="rId2" Type="http://schemas.openxmlformats.org/officeDocument/2006/relationships/image" Target="../media/image108.wmf"/><Relationship Id="rId3" Type="http://schemas.openxmlformats.org/officeDocument/2006/relationships/image" Target="../media/image109.wmf"/><Relationship Id="rId4" Type="http://schemas.openxmlformats.org/officeDocument/2006/relationships/image" Target="../media/image110.wmf"/><Relationship Id="rId5" Type="http://schemas.openxmlformats.org/officeDocument/2006/relationships/image" Target="../media/image111.wmf"/><Relationship Id="rId6" Type="http://schemas.openxmlformats.org/officeDocument/2006/relationships/image" Target="../media/image1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14.wmf"/><Relationship Id="rId3" Type="http://schemas.openxmlformats.org/officeDocument/2006/relationships/image" Target="../media/image115.jpeg"/><Relationship Id="rId4" Type="http://schemas.openxmlformats.org/officeDocument/2006/relationships/image" Target="../media/image116.png"/><Relationship Id="rId5" Type="http://schemas.openxmlformats.org/officeDocument/2006/relationships/image" Target="../media/image117.wmf"/><Relationship Id="rId6" Type="http://schemas.openxmlformats.org/officeDocument/2006/relationships/image" Target="../media/image1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9.wmf"/><Relationship Id="rId2" Type="http://schemas.openxmlformats.org/officeDocument/2006/relationships/image" Target="../media/image120.wmf"/><Relationship Id="rId3" Type="http://schemas.openxmlformats.org/officeDocument/2006/relationships/image" Target="../media/image121.wmf"/><Relationship Id="rId4" Type="http://schemas.openxmlformats.org/officeDocument/2006/relationships/image" Target="../media/image122.wmf"/><Relationship Id="rId5" Type="http://schemas.openxmlformats.org/officeDocument/2006/relationships/image" Target="../media/image123.wmf"/><Relationship Id="rId6" Type="http://schemas.openxmlformats.org/officeDocument/2006/relationships/image" Target="../media/image1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wmf"/><Relationship Id="rId3" Type="http://schemas.openxmlformats.org/officeDocument/2006/relationships/image" Target="../media/image127.wmf"/><Relationship Id="rId4" Type="http://schemas.openxmlformats.org/officeDocument/2006/relationships/image" Target="../media/image128.wmf"/><Relationship Id="rId5" Type="http://schemas.openxmlformats.org/officeDocument/2006/relationships/image" Target="../media/image129.png"/><Relationship Id="rId6" Type="http://schemas.openxmlformats.org/officeDocument/2006/relationships/image" Target="../media/image1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image" Target="../media/image133.wmf"/><Relationship Id="rId4" Type="http://schemas.openxmlformats.org/officeDocument/2006/relationships/image" Target="../media/image134.wmf"/><Relationship Id="rId5" Type="http://schemas.openxmlformats.org/officeDocument/2006/relationships/image" Target="../media/image135.png"/><Relationship Id="rId6" Type="http://schemas.openxmlformats.org/officeDocument/2006/relationships/image" Target="../media/image13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wmf"/><Relationship Id="rId4" Type="http://schemas.openxmlformats.org/officeDocument/2006/relationships/image" Target="../media/image140.wmf"/><Relationship Id="rId5" Type="http://schemas.openxmlformats.org/officeDocument/2006/relationships/image" Target="../media/image141.wmf"/><Relationship Id="rId6" Type="http://schemas.openxmlformats.org/officeDocument/2006/relationships/image" Target="../media/image142.wmf"/><Relationship Id="rId7" Type="http://schemas.openxmlformats.org/officeDocument/2006/relationships/image" Target="../media/image14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image" Target="../media/image146.wmf"/><Relationship Id="rId4" Type="http://schemas.openxmlformats.org/officeDocument/2006/relationships/image" Target="../media/image1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image" Target="../media/image149.png"/><Relationship Id="rId3" Type="http://schemas.openxmlformats.org/officeDocument/2006/relationships/image" Target="../media/image150.wmf"/><Relationship Id="rId4" Type="http://schemas.openxmlformats.org/officeDocument/2006/relationships/image" Target="../media/image151.wmf"/><Relationship Id="rId5" Type="http://schemas.openxmlformats.org/officeDocument/2006/relationships/image" Target="../media/image152.wmf"/><Relationship Id="rId6" Type="http://schemas.openxmlformats.org/officeDocument/2006/relationships/image" Target="../media/image15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jpeg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5" descr="C:\Users\Sedgwick\AppData\Local\Microsoft\Windows\Temporary Internet Files\Content.IE5\IP6KVSN2\MCj04357950000[1].wmf"/>
          <p:cNvPicPr/>
          <p:nvPr/>
        </p:nvPicPr>
        <p:blipFill>
          <a:blip r:embed="rId1"/>
          <a:stretch/>
        </p:blipFill>
        <p:spPr>
          <a:xfrm rot="726600">
            <a:off x="6933960" y="3215880"/>
            <a:ext cx="1800000" cy="1797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C:\Users\Sedgwick\AppData\Local\Microsoft\Windows\Temporary Internet Files\Content.IE5\53FYB3GW\MCj02833850000[1].wmf"/>
          <p:cNvPicPr/>
          <p:nvPr/>
        </p:nvPicPr>
        <p:blipFill>
          <a:blip r:embed="rId2"/>
          <a:stretch/>
        </p:blipFill>
        <p:spPr>
          <a:xfrm rot="20446800">
            <a:off x="5732640" y="3809520"/>
            <a:ext cx="1828800" cy="18068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Adventures in Keyboarding</a:t>
            </a:r>
            <a:endParaRPr b="0" lang="en-US" sz="4800" spc="-1" strike="noStrike">
              <a:solidFill>
                <a:srgbClr val="000000"/>
              </a:solidFill>
              <a:latin typeface="Freestyle Scrip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y: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Freestyle Script"/>
            </a:endParaRPr>
          </a:p>
        </p:txBody>
      </p:sp>
      <p:pic>
        <p:nvPicPr>
          <p:cNvPr id="50" name="Picture 12" descr="C:\Users\Sedgwick\AppData\Local\Microsoft\Windows\Temporary Internet Files\Content.IE5\53FYB3GW\MCj03643220000[1].wmf"/>
          <p:cNvPicPr/>
          <p:nvPr/>
        </p:nvPicPr>
        <p:blipFill>
          <a:blip r:embed="rId3"/>
          <a:stretch/>
        </p:blipFill>
        <p:spPr>
          <a:xfrm rot="20755200">
            <a:off x="679320" y="2803320"/>
            <a:ext cx="4187880" cy="3598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C:\Users\Sedgwick\AppData\Local\Microsoft\Windows\Temporary Internet Files\Content.IE5\53FYB3GW\MCj02834350000[1].wmf"/>
          <p:cNvPicPr/>
          <p:nvPr/>
        </p:nvPicPr>
        <p:blipFill>
          <a:blip r:embed="rId4"/>
          <a:stretch/>
        </p:blipFill>
        <p:spPr>
          <a:xfrm>
            <a:off x="7010280" y="4762440"/>
            <a:ext cx="1827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Sedgwick\AppData\Local\Microsoft\Windows\Temporary Internet Files\Content.IE5\53FYB3GW\MCj028340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Users\Sedgwick\AppData\Local\Microsoft\Windows\Temporary Internet Files\Content.IE5\ST318XTT\MCj04125100000[1].wmf"/>
          <p:cNvPicPr/>
          <p:nvPr/>
        </p:nvPicPr>
        <p:blipFill>
          <a:blip r:embed="rId2"/>
          <a:stretch/>
        </p:blipFill>
        <p:spPr>
          <a:xfrm>
            <a:off x="1447920" y="457200"/>
            <a:ext cx="110484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Sedgwick\AppData\Local\Microsoft\Windows\Temporary Internet Files\Content.IE5\6DYSX6KL\MCj02372500000[1].wmf"/>
          <p:cNvPicPr/>
          <p:nvPr/>
        </p:nvPicPr>
        <p:blipFill>
          <a:blip r:embed="rId3"/>
          <a:stretch/>
        </p:blipFill>
        <p:spPr>
          <a:xfrm>
            <a:off x="6033960" y="762120"/>
            <a:ext cx="2576520" cy="155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C:\Users\Sedgwick\AppData\Local\Microsoft\Windows\Temporary Internet Files\Content.IE5\IP6KVSN2\MCj02327480000[1].wmf"/>
          <p:cNvPicPr/>
          <p:nvPr/>
        </p:nvPicPr>
        <p:blipFill>
          <a:blip r:embed="rId4"/>
          <a:stretch/>
        </p:blipFill>
        <p:spPr>
          <a:xfrm>
            <a:off x="838080" y="4343400"/>
            <a:ext cx="2743200" cy="1330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C:\Users\Sedgwick\AppData\Local\Microsoft\Windows\Temporary Internet Files\Content.IE5\53FYB3GW\MCj04359470000[1].wmf"/>
          <p:cNvPicPr/>
          <p:nvPr/>
        </p:nvPicPr>
        <p:blipFill>
          <a:blip r:embed="rId5"/>
          <a:stretch/>
        </p:blipFill>
        <p:spPr>
          <a:xfrm>
            <a:off x="3716280" y="1981080"/>
            <a:ext cx="1711440" cy="182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C:\Users\Sedgwick\AppData\Local\Microsoft\Windows\Temporary Internet Files\Content.IE5\53FYB3GW\MCj04298270000[1].wmf"/>
          <p:cNvPicPr/>
          <p:nvPr/>
        </p:nvPicPr>
        <p:blipFill>
          <a:blip r:embed="rId6"/>
          <a:stretch/>
        </p:blipFill>
        <p:spPr>
          <a:xfrm>
            <a:off x="6553080" y="3581280"/>
            <a:ext cx="1600200" cy="19558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907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361944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907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65530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Sedgwick\AppData\Local\Microsoft\Windows\Temporary Internet Files\Content.IE5\IP6KVSN2\MCj028340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Sedgwick\AppData\Local\Microsoft\Windows\Temporary Internet Files\Content.IE5\6DYSX6KL\MCj02871890000[1].wmf"/>
          <p:cNvPicPr/>
          <p:nvPr/>
        </p:nvPicPr>
        <p:blipFill>
          <a:blip r:embed="rId2"/>
          <a:stretch/>
        </p:blipFill>
        <p:spPr>
          <a:xfrm>
            <a:off x="3681360" y="2133720"/>
            <a:ext cx="1781280" cy="1828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Sedgwick\AppData\Local\Microsoft\Windows\Temporary Internet Files\Content.IE5\IP6KVSN2\MCj02324310000[1].wmf"/>
          <p:cNvPicPr/>
          <p:nvPr/>
        </p:nvPicPr>
        <p:blipFill>
          <a:blip r:embed="rId3"/>
          <a:stretch/>
        </p:blipFill>
        <p:spPr>
          <a:xfrm>
            <a:off x="990720" y="685800"/>
            <a:ext cx="1966680" cy="1511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C:\Users\Sedgwick\AppData\Local\Microsoft\Windows\Temporary Internet Files\Content.IE5\IP6KVSN2\MCj04119440000[1].wmf"/>
          <p:cNvPicPr/>
          <p:nvPr/>
        </p:nvPicPr>
        <p:blipFill>
          <a:blip r:embed="rId4"/>
          <a:stretch/>
        </p:blipFill>
        <p:spPr>
          <a:xfrm>
            <a:off x="6172200" y="3978360"/>
            <a:ext cx="2219400" cy="1736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Users\Sedgwick\AppData\Local\Microsoft\Windows\Temporary Internet Files\Content.IE5\6DYSX6KL\MCj02326820000[1].wmf"/>
          <p:cNvPicPr/>
          <p:nvPr/>
        </p:nvPicPr>
        <p:blipFill>
          <a:blip r:embed="rId5"/>
          <a:stretch/>
        </p:blipFill>
        <p:spPr>
          <a:xfrm>
            <a:off x="6858000" y="457200"/>
            <a:ext cx="1200240" cy="1828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3" descr="C:\Users\Sedgwick\AppData\Local\Microsoft\Windows\Temporary Internet Files\Content.IE5\9TAPI911\MCj02974750000[1].wmf"/>
          <p:cNvPicPr/>
          <p:nvPr/>
        </p:nvPicPr>
        <p:blipFill>
          <a:blip r:embed="rId6"/>
          <a:stretch/>
        </p:blipFill>
        <p:spPr>
          <a:xfrm flipH="1">
            <a:off x="1143000" y="3809880"/>
            <a:ext cx="1611360" cy="18288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4"/>
          <p:cNvSpPr/>
          <p:nvPr/>
        </p:nvSpPr>
        <p:spPr>
          <a:xfrm>
            <a:off x="990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64008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16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17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Box 18"/>
          <p:cNvSpPr/>
          <p:nvPr/>
        </p:nvSpPr>
        <p:spPr>
          <a:xfrm>
            <a:off x="640080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C:\Users\Sedgwick\AppData\Local\Microsoft\Windows\Temporary Internet Files\Content.IE5\EUVX5WR6\MCj028340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Users\Sedgwick\AppData\Local\Microsoft\Windows\Temporary Internet Files\Content.IE5\9TAPI911\MCj04127640000[1].wmf"/>
          <p:cNvPicPr/>
          <p:nvPr/>
        </p:nvPicPr>
        <p:blipFill>
          <a:blip r:embed="rId2"/>
          <a:stretch/>
        </p:blipFill>
        <p:spPr>
          <a:xfrm>
            <a:off x="1295280" y="549360"/>
            <a:ext cx="1751040" cy="1736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Users\Sedgwick\AppData\Local\Microsoft\Windows\Temporary Internet Files\Content.IE5\VA1SBUOT\MCj04257420000[1].wmf"/>
          <p:cNvPicPr/>
          <p:nvPr/>
        </p:nvPicPr>
        <p:blipFill>
          <a:blip r:embed="rId3"/>
          <a:stretch/>
        </p:blipFill>
        <p:spPr>
          <a:xfrm>
            <a:off x="3925800" y="2057400"/>
            <a:ext cx="1292400" cy="1828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C:\Users\Sedgwick\AppData\Local\Microsoft\Windows\Temporary Internet Files\Content.IE5\9TAPI911\MCj04080560000[1].wmf"/>
          <p:cNvPicPr/>
          <p:nvPr/>
        </p:nvPicPr>
        <p:blipFill>
          <a:blip r:embed="rId4"/>
          <a:stretch/>
        </p:blipFill>
        <p:spPr>
          <a:xfrm>
            <a:off x="6553080" y="533520"/>
            <a:ext cx="1614600" cy="1736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Users\Sedgwick\AppData\Local\Microsoft\Windows\Temporary Internet Files\Content.IE5\VA1SBUOT\MCj03561130000[1].wmf"/>
          <p:cNvPicPr/>
          <p:nvPr/>
        </p:nvPicPr>
        <p:blipFill>
          <a:blip r:embed="rId5"/>
          <a:stretch/>
        </p:blipFill>
        <p:spPr>
          <a:xfrm flipH="1">
            <a:off x="761760" y="4191120"/>
            <a:ext cx="2452680" cy="1371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C:\Users\Sedgwick\AppData\Local\Microsoft\Windows\Temporary Internet Files\Content.IE5\EUVX5WR6\MCPE01958_0000[1].wmf"/>
          <p:cNvPicPr/>
          <p:nvPr/>
        </p:nvPicPr>
        <p:blipFill>
          <a:blip r:embed="rId6"/>
          <a:stretch/>
        </p:blipFill>
        <p:spPr>
          <a:xfrm>
            <a:off x="6510240" y="3794040"/>
            <a:ext cx="1567080" cy="1920960"/>
          </a:xfrm>
          <a:prstGeom prst="rect">
            <a:avLst/>
          </a:prstGeom>
          <a:ln w="0">
            <a:noFill/>
          </a:ln>
        </p:spPr>
      </p:pic>
      <p:sp>
        <p:nvSpPr>
          <p:cNvPr id="168" name="TextBox 8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1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2"/>
          <p:cNvSpPr/>
          <p:nvPr/>
        </p:nvSpPr>
        <p:spPr>
          <a:xfrm>
            <a:off x="6477120" y="5862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Sedgwick\AppData\Local\Microsoft\Windows\Temporary Internet Files\Content.IE5\L8ZR0T1V\MCj02834070000[1].wmf"/>
          <p:cNvPicPr/>
          <p:nvPr/>
        </p:nvPicPr>
        <p:blipFill>
          <a:blip r:embed="rId1"/>
          <a:stretch/>
        </p:blipFill>
        <p:spPr>
          <a:xfrm>
            <a:off x="3898800" y="152280"/>
            <a:ext cx="1346400" cy="1371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C:\Users\Sedgwick\AppData\Local\Microsoft\Windows\Temporary Internet Files\Content.IE5\VA1SBUOT\MCj02820960000[1].wmf"/>
          <p:cNvPicPr/>
          <p:nvPr/>
        </p:nvPicPr>
        <p:blipFill>
          <a:blip r:embed="rId2"/>
          <a:stretch/>
        </p:blipFill>
        <p:spPr>
          <a:xfrm>
            <a:off x="6248520" y="609480"/>
            <a:ext cx="2198520" cy="164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Sedgwick\AppData\Local\Microsoft\Windows\Temporary Internet Files\Content.IE5\EUVX5WR6\MCAN01285_0000[1].wmf"/>
          <p:cNvPicPr/>
          <p:nvPr/>
        </p:nvPicPr>
        <p:blipFill>
          <a:blip r:embed="rId3"/>
          <a:stretch/>
        </p:blipFill>
        <p:spPr>
          <a:xfrm>
            <a:off x="3722760" y="2133720"/>
            <a:ext cx="1774800" cy="1736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Sedgwick\AppData\Local\Microsoft\Windows\Temporary Internet Files\Content.IE5\EUVX5WR6\MCAN00070_0000[1].wmf"/>
          <p:cNvPicPr/>
          <p:nvPr/>
        </p:nvPicPr>
        <p:blipFill>
          <a:blip r:embed="rId4"/>
          <a:stretch/>
        </p:blipFill>
        <p:spPr>
          <a:xfrm flipH="1">
            <a:off x="990360" y="609480"/>
            <a:ext cx="1949400" cy="1737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C:\Users\Sedgwick\AppData\Local\Microsoft\Windows\Temporary Internet Files\Content.IE5\9TAPI911\MCj04343990000[1].wmf"/>
          <p:cNvPicPr/>
          <p:nvPr/>
        </p:nvPicPr>
        <p:blipFill>
          <a:blip r:embed="rId5"/>
          <a:stretch/>
        </p:blipFill>
        <p:spPr>
          <a:xfrm>
            <a:off x="6345360" y="4038480"/>
            <a:ext cx="2036520" cy="1463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0"/>
          <p:cNvSpPr/>
          <p:nvPr/>
        </p:nvSpPr>
        <p:spPr>
          <a:xfrm>
            <a:off x="10666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Box 11"/>
          <p:cNvSpPr/>
          <p:nvPr/>
        </p:nvSpPr>
        <p:spPr>
          <a:xfrm>
            <a:off x="1066680" y="5783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Box 12"/>
          <p:cNvSpPr/>
          <p:nvPr/>
        </p:nvSpPr>
        <p:spPr>
          <a:xfrm>
            <a:off x="655308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13"/>
          <p:cNvSpPr/>
          <p:nvPr/>
        </p:nvSpPr>
        <p:spPr>
          <a:xfrm>
            <a:off x="3619440" y="4038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4"/>
          <p:cNvSpPr/>
          <p:nvPr/>
        </p:nvSpPr>
        <p:spPr>
          <a:xfrm>
            <a:off x="6477120" y="578808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" descr="C:\Users\Sedgwick\AppData\Local\Microsoft\Windows\Temporary Internet Files\Content.IE5\9TAPI911\MCj03969400000[1].wmf"/>
          <p:cNvPicPr/>
          <p:nvPr/>
        </p:nvPicPr>
        <p:blipFill>
          <a:blip r:embed="rId6"/>
          <a:stretch/>
        </p:blipFill>
        <p:spPr>
          <a:xfrm>
            <a:off x="1347840" y="3657600"/>
            <a:ext cx="1395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Users\Sedgwick\AppData\Local\Microsoft\Windows\Temporary Internet Files\Content.IE5\VA1SBUOT\MCj028340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Users\Sedgwick\AppData\Local\Microsoft\Windows\Temporary Internet Files\Content.IE5\VA1SBUOT\MCAN04317_0000[1].wmf"/>
          <p:cNvPicPr/>
          <p:nvPr/>
        </p:nvPicPr>
        <p:blipFill>
          <a:blip r:embed="rId2"/>
          <a:stretch/>
        </p:blipFill>
        <p:spPr>
          <a:xfrm>
            <a:off x="6551640" y="3886200"/>
            <a:ext cx="1906560" cy="16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Users\Sedgwick\AppData\Local\Microsoft\Windows\Temporary Internet Files\Content.IE5\EUVX5WR6\MCj04174540000[1].wmf"/>
          <p:cNvPicPr/>
          <p:nvPr/>
        </p:nvPicPr>
        <p:blipFill>
          <a:blip r:embed="rId3"/>
          <a:stretch/>
        </p:blipFill>
        <p:spPr>
          <a:xfrm>
            <a:off x="1066680" y="3886200"/>
            <a:ext cx="1976400" cy="1646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C:\Users\Sedgwick\AppData\Local\Microsoft\Windows\Temporary Internet Files\Content.IE5\EUVX5WR6\MCj03000750000[1].wmf"/>
          <p:cNvPicPr/>
          <p:nvPr/>
        </p:nvPicPr>
        <p:blipFill>
          <a:blip r:embed="rId4"/>
          <a:stretch/>
        </p:blipFill>
        <p:spPr>
          <a:xfrm>
            <a:off x="3949560" y="1905120"/>
            <a:ext cx="1244880" cy="1815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C:\Users\Sedgwick\AppData\Local\Microsoft\Windows\Temporary Internet Files\Content.IE5\EUVX5WR6\MCj04325920000[1].png"/>
          <p:cNvPicPr/>
          <p:nvPr/>
        </p:nvPicPr>
        <p:blipFill>
          <a:blip r:embed="rId5"/>
          <a:stretch/>
        </p:blipFill>
        <p:spPr>
          <a:xfrm>
            <a:off x="6492960" y="549360"/>
            <a:ext cx="1736640" cy="1736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C:\Users\Sedgwick\AppData\Local\Microsoft\Windows\Temporary Internet Files\Content.IE5\L8ZR0T1V\MCj04134800000[1].wmf"/>
          <p:cNvPicPr/>
          <p:nvPr/>
        </p:nvPicPr>
        <p:blipFill>
          <a:blip r:embed="rId6"/>
          <a:stretch/>
        </p:blipFill>
        <p:spPr>
          <a:xfrm>
            <a:off x="1295280" y="457200"/>
            <a:ext cx="1562400" cy="18288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2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62485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Sedgwick\AppData\Local\Microsoft\Windows\Temporary Internet Files\Content.IE5\EUVX5WR6\MCj028341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C:\Users\Sedgwick\AppData\Local\Microsoft\Windows\Temporary Internet Files\Content.IE5\9TAPI911\MCSY01118_0000[1].wmf"/>
          <p:cNvPicPr/>
          <p:nvPr/>
        </p:nvPicPr>
        <p:blipFill>
          <a:blip r:embed="rId2"/>
          <a:stretch/>
        </p:blipFill>
        <p:spPr>
          <a:xfrm>
            <a:off x="6629400" y="457200"/>
            <a:ext cx="1652760" cy="173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:\Users\Sedgwick\AppData\Local\Microsoft\Windows\Temporary Internet Files\Content.IE5\L8ZR0T1V\MCj03340300000[1].wmf"/>
          <p:cNvPicPr/>
          <p:nvPr/>
        </p:nvPicPr>
        <p:blipFill>
          <a:blip r:embed="rId3"/>
          <a:stretch/>
        </p:blipFill>
        <p:spPr>
          <a:xfrm>
            <a:off x="1373040" y="3733920"/>
            <a:ext cx="1065240" cy="1819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C:\Users\Sedgwick\AppData\Local\Microsoft\Windows\Temporary Internet Files\Content.IE5\EUVX5WR6\MCj04244680000[1].wmf"/>
          <p:cNvPicPr/>
          <p:nvPr/>
        </p:nvPicPr>
        <p:blipFill>
          <a:blip r:embed="rId4"/>
          <a:stretch/>
        </p:blipFill>
        <p:spPr>
          <a:xfrm>
            <a:off x="914400" y="639720"/>
            <a:ext cx="1749600" cy="164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C:\Users\Sedgwick\AppData\Local\Microsoft\Windows\Temporary Internet Files\Content.IE5\VA1SBUOT\MCAN00775_0000[1].wmf"/>
          <p:cNvPicPr/>
          <p:nvPr/>
        </p:nvPicPr>
        <p:blipFill>
          <a:blip r:embed="rId5"/>
          <a:stretch/>
        </p:blipFill>
        <p:spPr>
          <a:xfrm>
            <a:off x="6396120" y="3886200"/>
            <a:ext cx="2138400" cy="1736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C:\Users\Sedgwick\AppData\Local\Microsoft\Windows\Temporary Internet Files\Content.IE5\VA1SBUOT\MCHM00388_0000[1].wmf"/>
          <p:cNvPicPr/>
          <p:nvPr/>
        </p:nvPicPr>
        <p:blipFill>
          <a:blip r:embed="rId6"/>
          <a:stretch/>
        </p:blipFill>
        <p:spPr>
          <a:xfrm>
            <a:off x="3710160" y="1996920"/>
            <a:ext cx="1723680" cy="17370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3"/>
          <p:cNvSpPr/>
          <p:nvPr/>
        </p:nvSpPr>
        <p:spPr>
          <a:xfrm>
            <a:off x="10666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64771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5"/>
          <p:cNvSpPr/>
          <p:nvPr/>
        </p:nvSpPr>
        <p:spPr>
          <a:xfrm>
            <a:off x="106668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65530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3619440" y="39574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Sedgwick\AppData\Local\Microsoft\Windows\Temporary Internet Files\Content.IE5\9TAPI911\MCj028341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C:\Users\Sedgwick\AppData\Local\Microsoft\Windows\Temporary Internet Files\Content.IE5\VA1SBUOT\MCj04241520000[1].wmf"/>
          <p:cNvPicPr/>
          <p:nvPr/>
        </p:nvPicPr>
        <p:blipFill>
          <a:blip r:embed="rId2"/>
          <a:stretch/>
        </p:blipFill>
        <p:spPr>
          <a:xfrm>
            <a:off x="1425600" y="609480"/>
            <a:ext cx="1165320" cy="18288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Users\Sedgwick\AppData\Local\Microsoft\Windows\Temporary Internet Files\Content.IE5\VA1SBUOT\MCj04135380000[1].wmf"/>
          <p:cNvPicPr/>
          <p:nvPr/>
        </p:nvPicPr>
        <p:blipFill>
          <a:blip r:embed="rId3"/>
          <a:stretch/>
        </p:blipFill>
        <p:spPr>
          <a:xfrm>
            <a:off x="6329520" y="609480"/>
            <a:ext cx="2128680" cy="173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C:\Users\Sedgwick\AppData\Local\Microsoft\Windows\Temporary Internet Files\Content.IE5\VA1SBUOT\MCj03403080000[1].wmf"/>
          <p:cNvPicPr/>
          <p:nvPr/>
        </p:nvPicPr>
        <p:blipFill>
          <a:blip r:embed="rId4"/>
          <a:stretch/>
        </p:blipFill>
        <p:spPr>
          <a:xfrm>
            <a:off x="4033800" y="1905120"/>
            <a:ext cx="1076400" cy="1828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Users\Sedgwick\AppData\Local\Microsoft\Windows\Temporary Internet Files\Content.IE5\VA1SBUOT\MCSY01847_0000[1].wmf"/>
          <p:cNvPicPr/>
          <p:nvPr/>
        </p:nvPicPr>
        <p:blipFill>
          <a:blip r:embed="rId5"/>
          <a:stretch/>
        </p:blipFill>
        <p:spPr>
          <a:xfrm>
            <a:off x="6437160" y="3886200"/>
            <a:ext cx="1792440" cy="1736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C:\Users\Sedgwick\AppData\Local\Microsoft\Windows\Temporary Internet Files\Content.IE5\EUVX5WR6\MCj01350870000[1].wmf"/>
          <p:cNvPicPr/>
          <p:nvPr/>
        </p:nvPicPr>
        <p:blipFill>
          <a:blip r:embed="rId6"/>
          <a:stretch/>
        </p:blipFill>
        <p:spPr>
          <a:xfrm>
            <a:off x="819000" y="3962520"/>
            <a:ext cx="2229120" cy="1736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4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066680" y="5862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640080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18"/>
          <p:cNvSpPr/>
          <p:nvPr/>
        </p:nvSpPr>
        <p:spPr>
          <a:xfrm>
            <a:off x="3619440" y="4033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Users\Sedgwick\AppData\Local\Microsoft\Windows\Temporary Internet Files\Content.IE5\L8ZR0T1V\MCj028341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C:\Users\Sedgwick\AppData\Local\Microsoft\Windows\Temporary Internet Files\Content.IE5\VA1SBUOT\MCj04174600000[1].wmf"/>
          <p:cNvPicPr/>
          <p:nvPr/>
        </p:nvPicPr>
        <p:blipFill>
          <a:blip r:embed="rId2"/>
          <a:stretch/>
        </p:blipFill>
        <p:spPr>
          <a:xfrm>
            <a:off x="1057320" y="625320"/>
            <a:ext cx="1762200" cy="1737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Sedgwick\AppData\Local\Microsoft\Windows\Temporary Internet Files\Content.IE5\L8ZR0T1V\MCj02376800000[1].wmf"/>
          <p:cNvPicPr/>
          <p:nvPr/>
        </p:nvPicPr>
        <p:blipFill>
          <a:blip r:embed="rId3"/>
          <a:stretch/>
        </p:blipFill>
        <p:spPr>
          <a:xfrm>
            <a:off x="6613560" y="457200"/>
            <a:ext cx="1311120" cy="18288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C:\Users\Sedgwick\AppData\Local\Microsoft\Windows\Temporary Internet Files\Content.IE5\VA1SBUOT\MCj04325790000[1].png"/>
          <p:cNvPicPr/>
          <p:nvPr/>
        </p:nvPicPr>
        <p:blipFill>
          <a:blip r:embed="rId4"/>
          <a:stretch/>
        </p:blipFill>
        <p:spPr>
          <a:xfrm>
            <a:off x="1066680" y="3657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C:\Users\Sedgwick\AppData\Local\Microsoft\Windows\Temporary Internet Files\Content.IE5\VA1SBUOT\MCAN00615_0000[1].wmf"/>
          <p:cNvPicPr/>
          <p:nvPr/>
        </p:nvPicPr>
        <p:blipFill>
          <a:blip r:embed="rId5"/>
          <a:stretch/>
        </p:blipFill>
        <p:spPr>
          <a:xfrm flipH="1">
            <a:off x="6477120" y="3657600"/>
            <a:ext cx="1738080" cy="1828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C:\Users\Sedgwick\AppData\Local\Microsoft\Windows\Temporary Internet Files\Content.IE5\VA1SBUOT\MCBS00590_0000[1].wmf"/>
          <p:cNvPicPr/>
          <p:nvPr/>
        </p:nvPicPr>
        <p:blipFill>
          <a:blip r:embed="rId6"/>
          <a:stretch/>
        </p:blipFill>
        <p:spPr>
          <a:xfrm>
            <a:off x="3716280" y="1905120"/>
            <a:ext cx="1711440" cy="1736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066680" y="55576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640080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4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3" descr="C:\Users\Sedgwick\AppData\Local\Microsoft\Windows\Temporary Internet Files\Content.IE5\9TAPI911\MCj02834170000[1].wmf"/>
          <p:cNvPicPr/>
          <p:nvPr/>
        </p:nvPicPr>
        <p:blipFill>
          <a:blip r:embed="rId1"/>
          <a:stretch/>
        </p:blipFill>
        <p:spPr>
          <a:xfrm>
            <a:off x="3984480" y="152280"/>
            <a:ext cx="13878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:\Users\Sedgwick\AppData\Local\Microsoft\Windows\Temporary Internet Files\Content.IE5\VA1SBUOT\MCj04246220000[1].wmf"/>
          <p:cNvPicPr/>
          <p:nvPr/>
        </p:nvPicPr>
        <p:blipFill>
          <a:blip r:embed="rId2"/>
          <a:stretch/>
        </p:blipFill>
        <p:spPr>
          <a:xfrm>
            <a:off x="1066680" y="609480"/>
            <a:ext cx="1828800" cy="1778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Sedgwick\AppData\Local\Microsoft\Windows\Temporary Internet Files\Content.IE5\L8ZR0T1V\MCj04059120000[1].wmf"/>
          <p:cNvPicPr/>
          <p:nvPr/>
        </p:nvPicPr>
        <p:blipFill>
          <a:blip r:embed="rId3"/>
          <a:stretch/>
        </p:blipFill>
        <p:spPr>
          <a:xfrm>
            <a:off x="6629400" y="53352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Sedgwick\AppData\Local\Microsoft\Windows\Temporary Internet Files\Content.IE5\L8ZR0T1V\MCj04344030000[1].wmf"/>
          <p:cNvPicPr/>
          <p:nvPr/>
        </p:nvPicPr>
        <p:blipFill>
          <a:blip r:embed="rId4"/>
          <a:stretch/>
        </p:blipFill>
        <p:spPr>
          <a:xfrm>
            <a:off x="6781680" y="3733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C:\Users\Sedgwick\AppData\Local\Microsoft\Windows\Temporary Internet Files\Content.IE5\EUVX5WR6\MCj03564830000[1].wmf"/>
          <p:cNvPicPr/>
          <p:nvPr/>
        </p:nvPicPr>
        <p:blipFill>
          <a:blip r:embed="rId5"/>
          <a:stretch/>
        </p:blipFill>
        <p:spPr>
          <a:xfrm>
            <a:off x="1219320" y="3733920"/>
            <a:ext cx="189216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C:\Users\Sedgwick\AppData\Local\Microsoft\Windows\Temporary Internet Files\Content.IE5\VA1SBUOT\MCAN04122_0000[1].wmf"/>
          <p:cNvPicPr/>
          <p:nvPr/>
        </p:nvPicPr>
        <p:blipFill>
          <a:blip r:embed="rId6"/>
          <a:stretch/>
        </p:blipFill>
        <p:spPr>
          <a:xfrm>
            <a:off x="3878280" y="1828800"/>
            <a:ext cx="1616040" cy="173664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9907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9907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2"/>
          <p:cNvSpPr/>
          <p:nvPr/>
        </p:nvSpPr>
        <p:spPr>
          <a:xfrm>
            <a:off x="64008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3"/>
          <p:cNvSpPr/>
          <p:nvPr/>
        </p:nvSpPr>
        <p:spPr>
          <a:xfrm>
            <a:off x="6477120" y="5786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C:\Users\Sedgwick\AppData\Local\Microsoft\Windows\Temporary Internet Files\Content.IE5\9TAPI911\MCj028341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C:\Users\Sedgwick\AppData\Local\Microsoft\Windows\Temporary Internet Files\Content.IE5\L8ZR0T1V\MCj04174440000[1].wmf"/>
          <p:cNvPicPr/>
          <p:nvPr/>
        </p:nvPicPr>
        <p:blipFill>
          <a:blip r:embed="rId2"/>
          <a:stretch/>
        </p:blipFill>
        <p:spPr>
          <a:xfrm>
            <a:off x="6705720" y="609480"/>
            <a:ext cx="1482480" cy="1828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C:\Users\Sedgwick\AppData\Local\Microsoft\Windows\Temporary Internet Files\Content.IE5\9TAPI911\MCj02327250000[1].wmf"/>
          <p:cNvPicPr/>
          <p:nvPr/>
        </p:nvPicPr>
        <p:blipFill>
          <a:blip r:embed="rId3"/>
          <a:stretch/>
        </p:blipFill>
        <p:spPr>
          <a:xfrm>
            <a:off x="1371600" y="609480"/>
            <a:ext cx="136512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C:\Users\Sedgwick\AppData\Local\Microsoft\Windows\Temporary Internet Files\Content.IE5\9TAPI911\MCHH00779_0000[1].wmf"/>
          <p:cNvPicPr/>
          <p:nvPr/>
        </p:nvPicPr>
        <p:blipFill>
          <a:blip r:embed="rId4"/>
          <a:stretch/>
        </p:blipFill>
        <p:spPr>
          <a:xfrm>
            <a:off x="4227480" y="1936800"/>
            <a:ext cx="1030320" cy="1644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C:\Users\Sedgwick\AppData\Local\Microsoft\Windows\Temporary Internet Files\Content.IE5\EUVX5WR6\MCj02379360000[1].wmf"/>
          <p:cNvPicPr/>
          <p:nvPr/>
        </p:nvPicPr>
        <p:blipFill>
          <a:blip r:embed="rId5"/>
          <a:stretch/>
        </p:blipFill>
        <p:spPr>
          <a:xfrm>
            <a:off x="6705720" y="3809880"/>
            <a:ext cx="1433520" cy="1828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C:\Users\Sedgwick\AppData\Local\Microsoft\Windows\Temporary Internet Files\Content.IE5\L8ZR0T1V\MCj03002050000[1].wmf"/>
          <p:cNvPicPr/>
          <p:nvPr/>
        </p:nvPicPr>
        <p:blipFill>
          <a:blip r:embed="rId6"/>
          <a:stretch/>
        </p:blipFill>
        <p:spPr>
          <a:xfrm>
            <a:off x="990720" y="3809880"/>
            <a:ext cx="2046240" cy="1737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13"/>
          <p:cNvSpPr/>
          <p:nvPr/>
        </p:nvSpPr>
        <p:spPr>
          <a:xfrm>
            <a:off x="1066680" y="2662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Box 15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Box 16"/>
          <p:cNvSpPr/>
          <p:nvPr/>
        </p:nvSpPr>
        <p:spPr>
          <a:xfrm>
            <a:off x="6477120" y="2662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C:\Users\Sedgwick\AppData\Local\Microsoft\Windows\Temporary Internet Files\Content.IE5\53FYB3GW\MCj02833850000[1].wmf"/>
          <p:cNvPicPr/>
          <p:nvPr/>
        </p:nvPicPr>
        <p:blipFill>
          <a:blip r:embed="rId1"/>
          <a:stretch/>
        </p:blipFill>
        <p:spPr>
          <a:xfrm>
            <a:off x="399420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Sedgwick\AppData\Local\Microsoft\Windows\Temporary Internet Files\Content.IE5\IP6KVSN2\MCj04395920000[1].png"/>
          <p:cNvPicPr/>
          <p:nvPr/>
        </p:nvPicPr>
        <p:blipFill>
          <a:blip r:embed="rId2"/>
          <a:stretch/>
        </p:blipFill>
        <p:spPr>
          <a:xfrm>
            <a:off x="838080" y="1066680"/>
            <a:ext cx="1500480" cy="1828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Sedgwick\AppData\Local\Microsoft\Windows\Temporary Internet Files\Content.IE5\6DYSX6KL\MCj03468930000[1].wmf"/>
          <p:cNvPicPr/>
          <p:nvPr/>
        </p:nvPicPr>
        <p:blipFill>
          <a:blip r:embed="rId3"/>
          <a:stretch/>
        </p:blipFill>
        <p:spPr>
          <a:xfrm>
            <a:off x="6629400" y="1219320"/>
            <a:ext cx="1827360" cy="1164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Sedgwick\AppData\Local\Microsoft\Windows\Temporary Internet Files\Content.IE5\6DYSX6KL\MCj03976640000[1].wmf"/>
          <p:cNvPicPr/>
          <p:nvPr/>
        </p:nvPicPr>
        <p:blipFill>
          <a:blip r:embed="rId4"/>
          <a:stretch/>
        </p:blipFill>
        <p:spPr>
          <a:xfrm>
            <a:off x="4221000" y="2205000"/>
            <a:ext cx="702000" cy="1828800"/>
          </a:xfrm>
          <a:prstGeom prst="rect">
            <a:avLst/>
          </a:prstGeom>
          <a:ln w="0">
            <a:noFill/>
          </a:ln>
        </p:spPr>
      </p:pic>
      <p:sp>
        <p:nvSpPr>
          <p:cNvPr id="56" name="TextBox 9"/>
          <p:cNvSpPr/>
          <p:nvPr/>
        </p:nvSpPr>
        <p:spPr>
          <a:xfrm>
            <a:off x="838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0"/>
          <p:cNvSpPr/>
          <p:nvPr/>
        </p:nvSpPr>
        <p:spPr>
          <a:xfrm>
            <a:off x="66294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3657600" y="42624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914400" y="55627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6705720" y="56386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1" descr="C:\Users\Sedgwick\AppData\Local\Microsoft\Windows\Temporary Internet Files\Content.IE5\6DYSX6KL\MCEN00505_0000[1].wmf"/>
          <p:cNvPicPr/>
          <p:nvPr/>
        </p:nvPicPr>
        <p:blipFill>
          <a:blip r:embed="rId5"/>
          <a:stretch/>
        </p:blipFill>
        <p:spPr>
          <a:xfrm>
            <a:off x="990720" y="3505320"/>
            <a:ext cx="158436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Sedgwick\AppData\Local\Microsoft\Windows\Temporary Internet Files\Content.IE5\ST318XTT\MCHM00376_0000[1].wmf"/>
          <p:cNvPicPr/>
          <p:nvPr/>
        </p:nvPicPr>
        <p:blipFill>
          <a:blip r:embed="rId6"/>
          <a:stretch/>
        </p:blipFill>
        <p:spPr>
          <a:xfrm>
            <a:off x="6781680" y="3581280"/>
            <a:ext cx="1722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Sedgwick\AppData\Local\Microsoft\Windows\Temporary Internet Files\Content.IE5\VA1SBUOT\MCj0283421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Sedgwick\AppData\Local\Microsoft\Windows\Temporary Internet Files\Content.IE5\L8ZR0T1V\MCj04124640000[1].wmf"/>
          <p:cNvPicPr/>
          <p:nvPr/>
        </p:nvPicPr>
        <p:blipFill>
          <a:blip r:embed="rId2"/>
          <a:stretch/>
        </p:blipFill>
        <p:spPr>
          <a:xfrm>
            <a:off x="1219320" y="609480"/>
            <a:ext cx="1768320" cy="1737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Sedgwick\AppData\Local\Microsoft\Windows\Temporary Internet Files\Content.IE5\L8ZR0T1V\MCj03825780000[1].jpg"/>
          <p:cNvPicPr/>
          <p:nvPr/>
        </p:nvPicPr>
        <p:blipFill>
          <a:blip r:embed="rId3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C:\Users\Sedgwick\AppData\Local\Microsoft\Windows\Temporary Internet Files\Content.IE5\VA1SBUOT\MCj04370550000[1].png"/>
          <p:cNvPicPr/>
          <p:nvPr/>
        </p:nvPicPr>
        <p:blipFill>
          <a:blip r:embed="rId4"/>
          <a:stretch/>
        </p:blipFill>
        <p:spPr>
          <a:xfrm>
            <a:off x="6553080" y="68580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C:\Users\Sedgwick\AppData\Local\Microsoft\Windows\Temporary Internet Files\Content.IE5\9TAPI911\MCj04126840000[1].wmf"/>
          <p:cNvPicPr/>
          <p:nvPr/>
        </p:nvPicPr>
        <p:blipFill>
          <a:blip r:embed="rId5"/>
          <a:stretch/>
        </p:blipFill>
        <p:spPr>
          <a:xfrm>
            <a:off x="3830760" y="1920960"/>
            <a:ext cx="1807920" cy="1736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C:\Users\Sedgwick\AppData\Local\Microsoft\Windows\Temporary Internet Files\Content.IE5\VA1SBUOT\MCj04246960000[1].wmf"/>
          <p:cNvPicPr/>
          <p:nvPr/>
        </p:nvPicPr>
        <p:blipFill>
          <a:blip r:embed="rId6"/>
          <a:stretch/>
        </p:blipFill>
        <p:spPr>
          <a:xfrm flipH="1">
            <a:off x="1066320" y="3932280"/>
            <a:ext cx="2319480" cy="1554120"/>
          </a:xfrm>
          <a:prstGeom prst="rect">
            <a:avLst/>
          </a:prstGeom>
          <a:ln w="0">
            <a:noFill/>
          </a:ln>
        </p:spPr>
      </p:pic>
      <p:sp>
        <p:nvSpPr>
          <p:cNvPr id="256" name="TextBox 17"/>
          <p:cNvSpPr/>
          <p:nvPr/>
        </p:nvSpPr>
        <p:spPr>
          <a:xfrm>
            <a:off x="106668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Box 18"/>
          <p:cNvSpPr/>
          <p:nvPr/>
        </p:nvSpPr>
        <p:spPr>
          <a:xfrm>
            <a:off x="64771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19"/>
          <p:cNvSpPr/>
          <p:nvPr/>
        </p:nvSpPr>
        <p:spPr>
          <a:xfrm>
            <a:off x="10666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20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21"/>
          <p:cNvSpPr/>
          <p:nvPr/>
        </p:nvSpPr>
        <p:spPr>
          <a:xfrm>
            <a:off x="380988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Users\Sedgwick\AppData\Local\Microsoft\Windows\Temporary Internet Files\Content.IE5\9TAPI911\MCj0283423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Sedgwick\AppData\Local\Microsoft\Windows\Temporary Internet Files\Content.IE5\9TAPI911\MCSY01848_0000[1].wmf"/>
          <p:cNvPicPr/>
          <p:nvPr/>
        </p:nvPicPr>
        <p:blipFill>
          <a:blip r:embed="rId2"/>
          <a:stretch/>
        </p:blipFill>
        <p:spPr>
          <a:xfrm>
            <a:off x="6477120" y="696960"/>
            <a:ext cx="1796760" cy="1741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C:\Users\Sedgwick\AppData\Local\Microsoft\Windows\Temporary Internet Files\Content.IE5\L8ZR0T1V\MCj03561650000[1].wmf"/>
          <p:cNvPicPr/>
          <p:nvPr/>
        </p:nvPicPr>
        <p:blipFill>
          <a:blip r:embed="rId3"/>
          <a:stretch/>
        </p:blipFill>
        <p:spPr>
          <a:xfrm>
            <a:off x="685800" y="3962520"/>
            <a:ext cx="2638440" cy="15112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C:\Users\Sedgwick\AppData\Local\Microsoft\Windows\Temporary Internet Files\Content.IE5\L8ZR0T1V\MCj04374570000[1].wmf"/>
          <p:cNvPicPr/>
          <p:nvPr/>
        </p:nvPicPr>
        <p:blipFill>
          <a:blip r:embed="rId4"/>
          <a:stretch/>
        </p:blipFill>
        <p:spPr>
          <a:xfrm>
            <a:off x="1263600" y="609480"/>
            <a:ext cx="1403280" cy="1825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:\Users\Sedgwick\AppData\Local\Microsoft\Windows\Temporary Internet Files\Content.IE5\9TAPI911\MCj03985290000[1].wmf"/>
          <p:cNvPicPr/>
          <p:nvPr/>
        </p:nvPicPr>
        <p:blipFill>
          <a:blip r:embed="rId5"/>
          <a:stretch/>
        </p:blipFill>
        <p:spPr>
          <a:xfrm>
            <a:off x="6172200" y="3886200"/>
            <a:ext cx="2435400" cy="1554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C:\Users\Sedgwick\AppData\Local\Microsoft\Windows\Temporary Internet Files\Content.IE5\EUVX5WR6\MCj04348210000[1].png"/>
          <p:cNvPicPr/>
          <p:nvPr/>
        </p:nvPicPr>
        <p:blipFill>
          <a:blip r:embed="rId6"/>
          <a:stretch/>
        </p:blipFill>
        <p:spPr>
          <a:xfrm>
            <a:off x="3825720" y="1828800"/>
            <a:ext cx="1737000" cy="1736640"/>
          </a:xfrm>
          <a:prstGeom prst="rect">
            <a:avLst/>
          </a:prstGeom>
          <a:ln w="0">
            <a:noFill/>
          </a:ln>
        </p:spPr>
      </p:pic>
      <p:sp>
        <p:nvSpPr>
          <p:cNvPr id="267" name="TextBox 8"/>
          <p:cNvSpPr/>
          <p:nvPr/>
        </p:nvSpPr>
        <p:spPr>
          <a:xfrm>
            <a:off x="10666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655308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106668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11"/>
          <p:cNvSpPr/>
          <p:nvPr/>
        </p:nvSpPr>
        <p:spPr>
          <a:xfrm>
            <a:off x="65530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2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C:\Users\Sedgwick\AppData\Local\Microsoft\Windows\Temporary Internet Files\Content.IE5\L8ZR0T1V\MCj0283425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C:\Users\Sedgwick\AppData\Local\Microsoft\Windows\Temporary Internet Files\Content.IE5\L8ZR0T1V\MCPE01529_0000[1].wmf"/>
          <p:cNvPicPr/>
          <p:nvPr/>
        </p:nvPicPr>
        <p:blipFill>
          <a:blip r:embed="rId2"/>
          <a:stretch/>
        </p:blipFill>
        <p:spPr>
          <a:xfrm>
            <a:off x="6629400" y="609480"/>
            <a:ext cx="1577880" cy="1828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C:\Users\Sedgwick\AppData\Local\Microsoft\Windows\Temporary Internet Files\Content.IE5\VA1SBUOT\MCj04242160000[1].wmf"/>
          <p:cNvPicPr/>
          <p:nvPr/>
        </p:nvPicPr>
        <p:blipFill>
          <a:blip r:embed="rId3"/>
          <a:stretch/>
        </p:blipFill>
        <p:spPr>
          <a:xfrm flipH="1">
            <a:off x="1143000" y="609480"/>
            <a:ext cx="1881360" cy="1828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C:\Users\Sedgwick\AppData\Local\Microsoft\Windows\Temporary Internet Files\Content.IE5\L8ZR0T1V\MCj02416250000[1].wmf"/>
          <p:cNvPicPr/>
          <p:nvPr/>
        </p:nvPicPr>
        <p:blipFill>
          <a:blip r:embed="rId4"/>
          <a:stretch/>
        </p:blipFill>
        <p:spPr>
          <a:xfrm>
            <a:off x="4105440" y="2001960"/>
            <a:ext cx="1228680" cy="1807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0" descr="C:\Users\Sedgwick\AppData\Local\Microsoft\Windows\Temporary Internet Files\Content.IE5\VA1SBUOT\MCj04362220000[1].png"/>
          <p:cNvPicPr/>
          <p:nvPr/>
        </p:nvPicPr>
        <p:blipFill>
          <a:blip r:embed="rId5"/>
          <a:stretch/>
        </p:blipFill>
        <p:spPr>
          <a:xfrm>
            <a:off x="6462720" y="3809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C:\Users\Sedgwick\AppData\Local\Microsoft\Windows\Temporary Internet Files\Content.IE5\L8ZR0T1V\MCj04123640000[1].wmf"/>
          <p:cNvPicPr/>
          <p:nvPr/>
        </p:nvPicPr>
        <p:blipFill>
          <a:blip r:embed="rId6"/>
          <a:stretch/>
        </p:blipFill>
        <p:spPr>
          <a:xfrm>
            <a:off x="990720" y="3733920"/>
            <a:ext cx="2119320" cy="1828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1430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6400800" y="27432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11430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640080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3733920" y="40338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Users\Sedgwick\AppData\Local\Microsoft\Windows\Temporary Internet Files\Content.IE5\L8ZR0T1V\MCj02834270000[1].wmf"/>
          <p:cNvPicPr/>
          <p:nvPr/>
        </p:nvPicPr>
        <p:blipFill>
          <a:blip r:embed="rId1"/>
          <a:stretch/>
        </p:blipFill>
        <p:spPr>
          <a:xfrm>
            <a:off x="4021200" y="152280"/>
            <a:ext cx="1388880" cy="1371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C:\Users\Sedgwick\AppData\Local\Microsoft\Windows\Temporary Internet Files\Content.IE5\VA1SBUOT\MCj04350710000[1].wmf"/>
          <p:cNvPicPr/>
          <p:nvPr/>
        </p:nvPicPr>
        <p:blipFill>
          <a:blip r:embed="rId2"/>
          <a:stretch/>
        </p:blipFill>
        <p:spPr>
          <a:xfrm>
            <a:off x="6934320" y="380880"/>
            <a:ext cx="880920" cy="1828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C:\Users\Sedgwick\AppData\Local\Microsoft\Windows\Temporary Internet Files\Content.IE5\EUVX5WR6\MCj03317870000[1].wmf"/>
          <p:cNvPicPr/>
          <p:nvPr/>
        </p:nvPicPr>
        <p:blipFill>
          <a:blip r:embed="rId3"/>
          <a:stretch/>
        </p:blipFill>
        <p:spPr>
          <a:xfrm>
            <a:off x="3846600" y="1957320"/>
            <a:ext cx="1792080" cy="1395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9" descr="C:\Users\Sedgwick\AppData\Local\Microsoft\Windows\Temporary Internet Files\Content.IE5\9TAPI911\MCj02809250000[1].wmf"/>
          <p:cNvPicPr/>
          <p:nvPr/>
        </p:nvPicPr>
        <p:blipFill>
          <a:blip r:embed="rId4"/>
          <a:stretch/>
        </p:blipFill>
        <p:spPr>
          <a:xfrm>
            <a:off x="1208160" y="3733920"/>
            <a:ext cx="1763640" cy="18288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C:\Users\Sedgwick\AppData\Local\Microsoft\Windows\Temporary Internet Files\Content.IE5\VA1SBUOT\MCj04347710000[1].png"/>
          <p:cNvPicPr/>
          <p:nvPr/>
        </p:nvPicPr>
        <p:blipFill>
          <a:blip r:embed="rId5"/>
          <a:stretch/>
        </p:blipFill>
        <p:spPr>
          <a:xfrm>
            <a:off x="6477120" y="3733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2" descr="C:\Users\Sedgwick\AppData\Local\Microsoft\Windows\Temporary Internet Files\Content.IE5\9TAPI911\MCj03378400000[1].wmf"/>
          <p:cNvPicPr/>
          <p:nvPr/>
        </p:nvPicPr>
        <p:blipFill>
          <a:blip r:embed="rId6"/>
          <a:stretch/>
        </p:blipFill>
        <p:spPr>
          <a:xfrm flipH="1">
            <a:off x="914400" y="1020600"/>
            <a:ext cx="2411280" cy="1189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13"/>
          <p:cNvSpPr/>
          <p:nvPr/>
        </p:nvSpPr>
        <p:spPr>
          <a:xfrm>
            <a:off x="1143000" y="25146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4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16"/>
          <p:cNvSpPr/>
          <p:nvPr/>
        </p:nvSpPr>
        <p:spPr>
          <a:xfrm>
            <a:off x="64771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7"/>
          <p:cNvSpPr/>
          <p:nvPr/>
        </p:nvSpPr>
        <p:spPr>
          <a:xfrm>
            <a:off x="3809880" y="3652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C:\Users\Sedgwick\AppData\Local\Microsoft\Windows\Temporary Internet Files\Content.IE5\EUVX5WR6\MCj02834290000[1].wmf"/>
          <p:cNvPicPr/>
          <p:nvPr/>
        </p:nvPicPr>
        <p:blipFill>
          <a:blip r:embed="rId1"/>
          <a:stretch/>
        </p:blipFill>
        <p:spPr>
          <a:xfrm>
            <a:off x="402264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C:\Users\Sedgwick\AppData\Local\Microsoft\Windows\Temporary Internet Files\Content.IE5\VA1SBUOT\MCj04246900000[1].wmf"/>
          <p:cNvPicPr/>
          <p:nvPr/>
        </p:nvPicPr>
        <p:blipFill>
          <a:blip r:embed="rId2"/>
          <a:stretch/>
        </p:blipFill>
        <p:spPr>
          <a:xfrm>
            <a:off x="6324480" y="639720"/>
            <a:ext cx="2048040" cy="1646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C:\Users\Sedgwick\AppData\Local\Microsoft\Windows\Temporary Internet Files\Content.IE5\VA1SBUOT\MCj03632720000[1].wmf"/>
          <p:cNvPicPr/>
          <p:nvPr/>
        </p:nvPicPr>
        <p:blipFill>
          <a:blip r:embed="rId3"/>
          <a:stretch/>
        </p:blipFill>
        <p:spPr>
          <a:xfrm flipH="1" rot="20716800">
            <a:off x="1186560" y="3763800"/>
            <a:ext cx="1900440" cy="17384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" descr="C:\Users\Sedgwick\AppData\Local\Microsoft\Windows\Temporary Internet Files\Content.IE5\VA1SBUOT\MCj03558730000[1].wmf"/>
          <p:cNvPicPr/>
          <p:nvPr/>
        </p:nvPicPr>
        <p:blipFill>
          <a:blip r:embed="rId4"/>
          <a:stretch/>
        </p:blipFill>
        <p:spPr>
          <a:xfrm flipH="1">
            <a:off x="6440040" y="3551400"/>
            <a:ext cx="1484280" cy="1828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C:\Users\Sedgwick\AppData\Local\Microsoft\Windows\Temporary Internet Files\Content.IE5\L8ZR0T1V\MCNA01635_0000[1].wmf"/>
          <p:cNvPicPr/>
          <p:nvPr/>
        </p:nvPicPr>
        <p:blipFill>
          <a:blip r:embed="rId5"/>
          <a:stretch/>
        </p:blipFill>
        <p:spPr>
          <a:xfrm>
            <a:off x="914400" y="625320"/>
            <a:ext cx="2290680" cy="17370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3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Box 14"/>
          <p:cNvSpPr/>
          <p:nvPr/>
        </p:nvSpPr>
        <p:spPr>
          <a:xfrm>
            <a:off x="6400800" y="2585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114300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Box 17"/>
          <p:cNvSpPr/>
          <p:nvPr/>
        </p:nvSpPr>
        <p:spPr>
          <a:xfrm>
            <a:off x="3733920" y="3805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13" descr="C:\Users\Sedgwick\AppData\Local\Microsoft\Windows\Temporary Internet Files\Content.IE5\TOVYX0VK\MC900445930[1].wmf"/>
          <p:cNvPicPr/>
          <p:nvPr/>
        </p:nvPicPr>
        <p:blipFill>
          <a:blip r:embed="rId6"/>
          <a:stretch/>
        </p:blipFill>
        <p:spPr>
          <a:xfrm>
            <a:off x="4267080" y="2055960"/>
            <a:ext cx="1670040" cy="1677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2" descr="C:\Users\Sedgwick\AppData\Local\Microsoft\Windows\Temporary Internet Files\Content.IE5\VA1SBUOT\MCj04325900000[1].png"/>
          <p:cNvPicPr/>
          <p:nvPr/>
        </p:nvPicPr>
        <p:blipFill>
          <a:blip r:embed="rId7"/>
          <a:stretch/>
        </p:blipFill>
        <p:spPr>
          <a:xfrm>
            <a:off x="3657600" y="1751040"/>
            <a:ext cx="173664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5" descr="C:\Users\Sedgwick\AppData\Local\Microsoft\Windows\Temporary Internet Files\Content.IE5\L8ZR0T1V\MCj01382910000[1].wmf"/>
          <p:cNvPicPr/>
          <p:nvPr/>
        </p:nvPicPr>
        <p:blipFill>
          <a:blip r:embed="rId1"/>
          <a:stretch/>
        </p:blipFill>
        <p:spPr>
          <a:xfrm>
            <a:off x="3233880" y="2895480"/>
            <a:ext cx="2862000" cy="210348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" descr="C:\Users\Sedgwick\AppData\Local\Microsoft\Windows\Temporary Internet Files\Content.IE5\9TAPI911\MCj02834310000[1].wmf"/>
          <p:cNvPicPr/>
          <p:nvPr/>
        </p:nvPicPr>
        <p:blipFill>
          <a:blip r:embed="rId2"/>
          <a:stretch/>
        </p:blipFill>
        <p:spPr>
          <a:xfrm>
            <a:off x="396252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3" descr="C:\Users\Sedgwick\AppData\Local\Microsoft\Windows\Temporary Internet Files\Content.IE5\EUVX5WR6\MCSY00018_0000[1].wmf"/>
          <p:cNvPicPr/>
          <p:nvPr/>
        </p:nvPicPr>
        <p:blipFill>
          <a:blip r:embed="rId3"/>
          <a:stretch/>
        </p:blipFill>
        <p:spPr>
          <a:xfrm>
            <a:off x="6232680" y="716040"/>
            <a:ext cx="2225520" cy="2103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C:\Users\Sedgwick\AppData\Local\Microsoft\Windows\Temporary Internet Files\Content.IE5\L8ZR0T1V\MCj03341480000[1].wmf"/>
          <p:cNvPicPr/>
          <p:nvPr/>
        </p:nvPicPr>
        <p:blipFill>
          <a:blip r:embed="rId4"/>
          <a:stretch/>
        </p:blipFill>
        <p:spPr>
          <a:xfrm>
            <a:off x="1231920" y="716040"/>
            <a:ext cx="1511280" cy="2103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7"/>
          <p:cNvSpPr/>
          <p:nvPr/>
        </p:nvSpPr>
        <p:spPr>
          <a:xfrm>
            <a:off x="1143000" y="3048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3733920" y="54817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5943600" y="3043080"/>
            <a:ext cx="274320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C:\Users\Sedgwick\AppData\Local\Microsoft\Windows\Temporary Internet Files\Content.IE5\VA1SBUOT\MCj02834330000[1].wmf"/>
          <p:cNvPicPr/>
          <p:nvPr/>
        </p:nvPicPr>
        <p:blipFill>
          <a:blip r:embed="rId1"/>
          <a:stretch/>
        </p:blipFill>
        <p:spPr>
          <a:xfrm>
            <a:off x="3944880" y="152280"/>
            <a:ext cx="138924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Sedgwick\AppData\Local\Microsoft\Windows\Temporary Internet Files\Content.IE5\VA1SBUOT\MCj04396080000[1].png"/>
          <p:cNvPicPr/>
          <p:nvPr/>
        </p:nvPicPr>
        <p:blipFill>
          <a:blip r:embed="rId2"/>
          <a:stretch/>
        </p:blipFill>
        <p:spPr>
          <a:xfrm>
            <a:off x="3932280" y="1981080"/>
            <a:ext cx="1325520" cy="1737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C:\Users\Sedgwick\AppData\Local\Microsoft\Windows\Temporary Internet Files\Content.IE5\L8ZR0T1V\MCj04244660000[1].wmf"/>
          <p:cNvPicPr/>
          <p:nvPr/>
        </p:nvPicPr>
        <p:blipFill>
          <a:blip r:embed="rId3"/>
          <a:stretch/>
        </p:blipFill>
        <p:spPr>
          <a:xfrm>
            <a:off x="6172200" y="609480"/>
            <a:ext cx="2019240" cy="1737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7" descr="C:\Users\Sedgwick\AppData\Local\Microsoft\Windows\Temporary Internet Files\Content.IE5\VA1SBUOT\MCj02961730000[1].wmf"/>
          <p:cNvPicPr/>
          <p:nvPr/>
        </p:nvPicPr>
        <p:blipFill>
          <a:blip r:embed="rId4"/>
          <a:stretch/>
        </p:blipFill>
        <p:spPr>
          <a:xfrm>
            <a:off x="947880" y="3962520"/>
            <a:ext cx="2328840" cy="15541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C:\Users\Sedgwick\AppData\Local\Microsoft\Windows\Temporary Internet Files\Content.IE5\L8ZR0T1V\MCSO01393_0000[1].wmf"/>
          <p:cNvPicPr/>
          <p:nvPr/>
        </p:nvPicPr>
        <p:blipFill>
          <a:blip r:embed="rId5"/>
          <a:stretch/>
        </p:blipFill>
        <p:spPr>
          <a:xfrm>
            <a:off x="5821200" y="3809880"/>
            <a:ext cx="2560680" cy="17161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9" descr="C:\Users\Sedgwick\AppData\Local\Microsoft\Windows\Temporary Internet Files\Content.IE5\9TAPI911\MCj00841860000[1].wmf"/>
          <p:cNvPicPr/>
          <p:nvPr/>
        </p:nvPicPr>
        <p:blipFill>
          <a:blip r:embed="rId6"/>
          <a:stretch/>
        </p:blipFill>
        <p:spPr>
          <a:xfrm>
            <a:off x="1066680" y="625320"/>
            <a:ext cx="1994040" cy="1737000"/>
          </a:xfrm>
          <a:prstGeom prst="rect">
            <a:avLst/>
          </a:prstGeom>
          <a:ln w="0">
            <a:noFill/>
          </a:ln>
        </p:spPr>
      </p:pic>
      <p:sp>
        <p:nvSpPr>
          <p:cNvPr id="31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Box 11"/>
          <p:cNvSpPr/>
          <p:nvPr/>
        </p:nvSpPr>
        <p:spPr>
          <a:xfrm>
            <a:off x="6248520" y="25909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143000" y="566424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3"/>
          <p:cNvSpPr/>
          <p:nvPr/>
        </p:nvSpPr>
        <p:spPr>
          <a:xfrm>
            <a:off x="62485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Box 14"/>
          <p:cNvSpPr/>
          <p:nvPr/>
        </p:nvSpPr>
        <p:spPr>
          <a:xfrm>
            <a:off x="365760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C:\Users\Sedgwick\AppData\Local\Microsoft\Windows\Temporary Internet Files\Content.IE5\53FYB3GW\MCj02834350000[1].wmf"/>
          <p:cNvPicPr/>
          <p:nvPr/>
        </p:nvPicPr>
        <p:blipFill>
          <a:blip r:embed="rId1"/>
          <a:stretch/>
        </p:blipFill>
        <p:spPr>
          <a:xfrm>
            <a:off x="4067280" y="152280"/>
            <a:ext cx="1342800" cy="13716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" descr="C:\Users\Sedgwick\AppData\Local\Microsoft\Windows\Temporary Internet Files\Content.IE5\EUVX5WR6\MCj01992540000[1].wmf"/>
          <p:cNvPicPr/>
          <p:nvPr/>
        </p:nvPicPr>
        <p:blipFill>
          <a:blip r:embed="rId2"/>
          <a:stretch/>
        </p:blipFill>
        <p:spPr>
          <a:xfrm>
            <a:off x="6705720" y="3657600"/>
            <a:ext cx="1303200" cy="1828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C:\Users\Sedgwick\AppData\Local\Microsoft\Windows\Temporary Internet Files\Content.IE5\VA1SBUOT\MCj02809350000[1].wmf"/>
          <p:cNvPicPr/>
          <p:nvPr/>
        </p:nvPicPr>
        <p:blipFill>
          <a:blip r:embed="rId3"/>
          <a:stretch/>
        </p:blipFill>
        <p:spPr>
          <a:xfrm>
            <a:off x="984240" y="3505320"/>
            <a:ext cx="2368440" cy="20113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C:\Users\Sedgwick\AppData\Local\Microsoft\Windows\Temporary Internet Files\Content.IE5\9TAPI911\MCAN00774_0000[1].wmf"/>
          <p:cNvPicPr/>
          <p:nvPr/>
        </p:nvPicPr>
        <p:blipFill>
          <a:blip r:embed="rId4"/>
          <a:stretch/>
        </p:blipFill>
        <p:spPr>
          <a:xfrm>
            <a:off x="6705720" y="609480"/>
            <a:ext cx="1349280" cy="1828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8" descr="C:\Users\Sedgwick\AppData\Local\Microsoft\Windows\Temporary Internet Files\Content.IE5\9TAPI911\MCSY01846_0000[1].wmf"/>
          <p:cNvPicPr/>
          <p:nvPr/>
        </p:nvPicPr>
        <p:blipFill>
          <a:blip r:embed="rId5"/>
          <a:stretch/>
        </p:blipFill>
        <p:spPr>
          <a:xfrm rot="10800000">
            <a:off x="1218960" y="533520"/>
            <a:ext cx="1887480" cy="182880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0"/>
          <p:cNvSpPr/>
          <p:nvPr/>
        </p:nvSpPr>
        <p:spPr>
          <a:xfrm>
            <a:off x="11430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6400800" y="2590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1219320" y="5710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6400800" y="5715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0" descr="C:\Users\Sedgwick\AppData\Local\Microsoft\Windows\Temporary Internet Files\Content.IE5\9TAPI911\MCDD00081_0000[1].wmf"/>
          <p:cNvPicPr/>
          <p:nvPr/>
        </p:nvPicPr>
        <p:blipFill>
          <a:blip r:embed="rId6"/>
          <a:stretch/>
        </p:blipFill>
        <p:spPr>
          <a:xfrm>
            <a:off x="3881520" y="1693800"/>
            <a:ext cx="1604880" cy="164628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5"/>
          <p:cNvSpPr/>
          <p:nvPr/>
        </p:nvSpPr>
        <p:spPr>
          <a:xfrm>
            <a:off x="3733920" y="3728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Sedgwick\AppData\Local\Microsoft\Windows\Temporary Internet Files\Content.IE5\6DYSX6KL\MCj0283387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Sedgwick\AppData\Local\Microsoft\Windows\Temporary Internet Files\Content.IE5\IP6KVSN2\MCj03564430000[1].wmf"/>
          <p:cNvPicPr/>
          <p:nvPr/>
        </p:nvPicPr>
        <p:blipFill>
          <a:blip r:embed="rId2"/>
          <a:stretch/>
        </p:blipFill>
        <p:spPr>
          <a:xfrm>
            <a:off x="838080" y="609480"/>
            <a:ext cx="2140200" cy="1828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C:\Users\Sedgwick\AppData\Local\Microsoft\Windows\Temporary Internet Files\Content.IE5\6DYSX6KL\MCj04108170000[1].wmf"/>
          <p:cNvPicPr/>
          <p:nvPr/>
        </p:nvPicPr>
        <p:blipFill>
          <a:blip r:embed="rId3"/>
          <a:stretch/>
        </p:blipFill>
        <p:spPr>
          <a:xfrm>
            <a:off x="6705720" y="3809880"/>
            <a:ext cx="1573200" cy="164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C:\Users\Sedgwick\AppData\Local\Microsoft\Windows\Temporary Internet Files\Content.IE5\53FYB3GW\MCj02151770000[1].wmf"/>
          <p:cNvPicPr/>
          <p:nvPr/>
        </p:nvPicPr>
        <p:blipFill>
          <a:blip r:embed="rId4"/>
          <a:stretch/>
        </p:blipFill>
        <p:spPr>
          <a:xfrm>
            <a:off x="6248520" y="609480"/>
            <a:ext cx="2427120" cy="164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Users\Sedgwick\AppData\Local\Microsoft\Windows\Temporary Internet Files\Content.IE5\IP6KVSN2\MCj04247500000[1].wmf"/>
          <p:cNvPicPr/>
          <p:nvPr/>
        </p:nvPicPr>
        <p:blipFill>
          <a:blip r:embed="rId5"/>
          <a:stretch/>
        </p:blipFill>
        <p:spPr>
          <a:xfrm>
            <a:off x="3597120" y="2603520"/>
            <a:ext cx="1949760" cy="16509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/>
          <p:cNvSpPr/>
          <p:nvPr/>
        </p:nvSpPr>
        <p:spPr>
          <a:xfrm>
            <a:off x="990720" y="26668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3"/>
          <p:cNvSpPr/>
          <p:nvPr/>
        </p:nvSpPr>
        <p:spPr>
          <a:xfrm>
            <a:off x="67057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15"/>
          <p:cNvSpPr/>
          <p:nvPr/>
        </p:nvSpPr>
        <p:spPr>
          <a:xfrm>
            <a:off x="662940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6"/>
          <p:cNvSpPr/>
          <p:nvPr/>
        </p:nvSpPr>
        <p:spPr>
          <a:xfrm>
            <a:off x="3733920" y="4491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12" descr="C:\Users\Sedgwick\AppData\Local\Microsoft\Windows\Temporary Internet Files\Content.IE5\VA1SBUOT\MCj04338870000[1].png"/>
          <p:cNvPicPr/>
          <p:nvPr/>
        </p:nvPicPr>
        <p:blipFill>
          <a:blip r:embed="rId6"/>
          <a:stretch/>
        </p:blipFill>
        <p:spPr>
          <a:xfrm>
            <a:off x="1173240" y="3886200"/>
            <a:ext cx="16462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Sedgwick\AppData\Local\Microsoft\Windows\Temporary Internet Files\Content.IE5\IP6KVSN2\MCj028338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Sedgwick\AppData\Local\Microsoft\Windows\Temporary Internet Files\Content.IE5\IP6KVSN2\MCj04116420000[1].wmf"/>
          <p:cNvPicPr/>
          <p:nvPr/>
        </p:nvPicPr>
        <p:blipFill>
          <a:blip r:embed="rId2"/>
          <a:stretch/>
        </p:blipFill>
        <p:spPr>
          <a:xfrm>
            <a:off x="3778200" y="2133720"/>
            <a:ext cx="158760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Users\Sedgwick\AppData\Local\Microsoft\Windows\Temporary Internet Files\Content.IE5\ST318XTT\MCAN02493_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368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Sedgwick\AppData\Local\Microsoft\Windows\Temporary Internet Files\Content.IE5\53FYB3GW\MCj04241880000[1].wmf"/>
          <p:cNvPicPr/>
          <p:nvPr/>
        </p:nvPicPr>
        <p:blipFill>
          <a:blip r:embed="rId4"/>
          <a:stretch/>
        </p:blipFill>
        <p:spPr>
          <a:xfrm>
            <a:off x="990720" y="4098960"/>
            <a:ext cx="2016000" cy="1463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Sedgwick\AppData\Local\Microsoft\Windows\Temporary Internet Files\Content.IE5\ST318XTT\MCj04124320000[1].wmf"/>
          <p:cNvPicPr/>
          <p:nvPr/>
        </p:nvPicPr>
        <p:blipFill>
          <a:blip r:embed="rId5"/>
          <a:stretch/>
        </p:blipFill>
        <p:spPr>
          <a:xfrm>
            <a:off x="990720" y="609480"/>
            <a:ext cx="1623960" cy="1828800"/>
          </a:xfrm>
          <a:prstGeom prst="rect">
            <a:avLst/>
          </a:prstGeom>
          <a:ln w="0">
            <a:noFill/>
          </a:ln>
        </p:spPr>
      </p:pic>
      <p:sp>
        <p:nvSpPr>
          <p:cNvPr id="79" name="TextBox 10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477120" y="27432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365760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3"/>
          <p:cNvSpPr/>
          <p:nvPr/>
        </p:nvSpPr>
        <p:spPr>
          <a:xfrm>
            <a:off x="9907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4"/>
          <p:cNvSpPr/>
          <p:nvPr/>
        </p:nvSpPr>
        <p:spPr>
          <a:xfrm>
            <a:off x="6477120" y="5867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C:\Users\Sedgwick\AppData\Local\Microsoft\Windows\Temporary Internet Files\Content.IE5\IP6KVSN2\MCj04238560000[1].wmf"/>
          <p:cNvPicPr/>
          <p:nvPr/>
        </p:nvPicPr>
        <p:blipFill>
          <a:blip r:embed="rId6"/>
          <a:stretch/>
        </p:blipFill>
        <p:spPr>
          <a:xfrm>
            <a:off x="6583320" y="3962520"/>
            <a:ext cx="164628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Sedgwick\AppData\Local\Microsoft\Windows\Temporary Internet Files\Content.IE5\ST318XTT\MCj0283391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Sedgwick\AppData\Local\Microsoft\Windows\Temporary Internet Files\Content.IE5\53FYB3GW\MCj04239940000[1].wmf"/>
          <p:cNvPicPr/>
          <p:nvPr/>
        </p:nvPicPr>
        <p:blipFill>
          <a:blip r:embed="rId2"/>
          <a:stretch/>
        </p:blipFill>
        <p:spPr>
          <a:xfrm>
            <a:off x="1096920" y="609480"/>
            <a:ext cx="179856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Sedgwick\AppData\Local\Microsoft\Windows\Temporary Internet Files\Content.IE5\6DYSX6KL\MCj03561570000[1].wmf"/>
          <p:cNvPicPr/>
          <p:nvPr/>
        </p:nvPicPr>
        <p:blipFill>
          <a:blip r:embed="rId3"/>
          <a:stretch/>
        </p:blipFill>
        <p:spPr>
          <a:xfrm>
            <a:off x="6629400" y="609480"/>
            <a:ext cx="1590840" cy="1737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Sedgwick\AppData\Local\Microsoft\Windows\Temporary Internet Files\Content.IE5\53FYB3GW\MCj04116400000[1].wmf"/>
          <p:cNvPicPr/>
          <p:nvPr/>
        </p:nvPicPr>
        <p:blipFill>
          <a:blip r:embed="rId4"/>
          <a:stretch/>
        </p:blipFill>
        <p:spPr>
          <a:xfrm>
            <a:off x="3635280" y="2209680"/>
            <a:ext cx="1873440" cy="1737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C:\Users\Sedgwick\AppData\Local\Microsoft\Windows\Temporary Internet Files\Content.IE5\IP6KVSN2\MCj03523780000[1].wmf"/>
          <p:cNvPicPr/>
          <p:nvPr/>
        </p:nvPicPr>
        <p:blipFill>
          <a:blip r:embed="rId5"/>
          <a:stretch/>
        </p:blipFill>
        <p:spPr>
          <a:xfrm>
            <a:off x="1371600" y="3809880"/>
            <a:ext cx="1082520" cy="1811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C:\Users\Sedgwick\AppData\Local\Microsoft\Windows\Temporary Internet Files\Content.IE5\ST318XTT\MCj02154950000[1].wmf"/>
          <p:cNvPicPr/>
          <p:nvPr/>
        </p:nvPicPr>
        <p:blipFill>
          <a:blip r:embed="rId6"/>
          <a:stretch/>
        </p:blipFill>
        <p:spPr>
          <a:xfrm>
            <a:off x="6794640" y="3809880"/>
            <a:ext cx="1511280" cy="1828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914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662940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990720" y="579132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66294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Users\Sedgwick\AppData\Local\Microsoft\Windows\Temporary Internet Files\Content.IE5\6DYSX6KL\MCj0283393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Sedgwick\AppData\Local\Microsoft\Windows\Temporary Internet Files\Content.IE5\ST318XTT\MCj02812840000[1].wmf"/>
          <p:cNvPicPr/>
          <p:nvPr/>
        </p:nvPicPr>
        <p:blipFill>
          <a:blip r:embed="rId2"/>
          <a:stretch/>
        </p:blipFill>
        <p:spPr>
          <a:xfrm>
            <a:off x="990720" y="762120"/>
            <a:ext cx="2286000" cy="12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C:\Users\Sedgwick\AppData\Local\Microsoft\Windows\Temporary Internet Files\Content.IE5\6DYSX6KL\MCj03400080000[1].wmf"/>
          <p:cNvPicPr/>
          <p:nvPr/>
        </p:nvPicPr>
        <p:blipFill>
          <a:blip r:embed="rId3"/>
          <a:stretch/>
        </p:blipFill>
        <p:spPr>
          <a:xfrm>
            <a:off x="6629400" y="563400"/>
            <a:ext cx="1562040" cy="1646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C:\Users\Sedgwick\AppData\Local\Microsoft\Windows\Temporary Internet Files\Content.IE5\53FYB3GW\MCj03982970000[1].wmf"/>
          <p:cNvPicPr/>
          <p:nvPr/>
        </p:nvPicPr>
        <p:blipFill>
          <a:blip r:embed="rId4"/>
          <a:stretch/>
        </p:blipFill>
        <p:spPr>
          <a:xfrm>
            <a:off x="1295280" y="3657600"/>
            <a:ext cx="1511280" cy="1827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C:\Users\Sedgwick\AppData\Local\Microsoft\Windows\Temporary Internet Files\Content.IE5\53FYB3GW\MCj03013020000[1].wmf"/>
          <p:cNvPicPr/>
          <p:nvPr/>
        </p:nvPicPr>
        <p:blipFill>
          <a:blip r:embed="rId5"/>
          <a:stretch/>
        </p:blipFill>
        <p:spPr>
          <a:xfrm>
            <a:off x="6553080" y="3657600"/>
            <a:ext cx="1708200" cy="1809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C:\Users\Sedgwick\AppData\Local\Microsoft\Windows\Temporary Internet Files\Content.IE5\IP6KVSN2\MCj04363940000[1].png"/>
          <p:cNvPicPr/>
          <p:nvPr/>
        </p:nvPicPr>
        <p:blipFill>
          <a:blip r:embed="rId6"/>
          <a:stretch/>
        </p:blipFill>
        <p:spPr>
          <a:xfrm>
            <a:off x="3848040" y="2133720"/>
            <a:ext cx="1447920" cy="1828800"/>
          </a:xfrm>
          <a:prstGeom prst="rect">
            <a:avLst/>
          </a:prstGeom>
          <a:ln w="0">
            <a:noFill/>
          </a:ln>
        </p:spPr>
      </p:pic>
      <p:sp>
        <p:nvSpPr>
          <p:cNvPr id="102" name="TextBox 9"/>
          <p:cNvSpPr/>
          <p:nvPr/>
        </p:nvSpPr>
        <p:spPr>
          <a:xfrm>
            <a:off x="1143000" y="25099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10"/>
          <p:cNvSpPr/>
          <p:nvPr/>
        </p:nvSpPr>
        <p:spPr>
          <a:xfrm>
            <a:off x="6477120" y="25146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11"/>
          <p:cNvSpPr/>
          <p:nvPr/>
        </p:nvSpPr>
        <p:spPr>
          <a:xfrm>
            <a:off x="3619440" y="4191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11430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6400800" y="5791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Users\Sedgwick\AppData\Local\Microsoft\Windows\Temporary Internet Files\Content.IE5\ST318XTT\MCj0283395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C:\Users\Sedgwick\AppData\Local\Microsoft\Windows\Temporary Internet Files\Content.IE5\ST318XTT\MCHM00383_0000[1].wmf"/>
          <p:cNvPicPr/>
          <p:nvPr/>
        </p:nvPicPr>
        <p:blipFill>
          <a:blip r:embed="rId2"/>
          <a:stretch/>
        </p:blipFill>
        <p:spPr>
          <a:xfrm>
            <a:off x="1143000" y="685800"/>
            <a:ext cx="2089080" cy="1463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Users\Sedgwick\AppData\Local\Microsoft\Windows\Temporary Internet Files\Content.IE5\ST318XTT\MCj04175800000[1].wmf"/>
          <p:cNvPicPr/>
          <p:nvPr/>
        </p:nvPicPr>
        <p:blipFill>
          <a:blip r:embed="rId3"/>
          <a:stretch/>
        </p:blipFill>
        <p:spPr>
          <a:xfrm>
            <a:off x="3898800" y="2057400"/>
            <a:ext cx="134640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C:\Users\Sedgwick\AppData\Local\Microsoft\Windows\Temporary Internet Files\Content.IE5\53FYB3GW\MCj00843460000[1].wmf"/>
          <p:cNvPicPr/>
          <p:nvPr/>
        </p:nvPicPr>
        <p:blipFill>
          <a:blip r:embed="rId4"/>
          <a:stretch/>
        </p:blipFill>
        <p:spPr>
          <a:xfrm>
            <a:off x="6400800" y="304920"/>
            <a:ext cx="178740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C:\Users\Sedgwick\AppData\Local\Microsoft\Windows\Temporary Internet Files\Content.IE5\ST318XTT\MCSY01850_0000[1].wmf"/>
          <p:cNvPicPr/>
          <p:nvPr/>
        </p:nvPicPr>
        <p:blipFill>
          <a:blip r:embed="rId5"/>
          <a:stretch/>
        </p:blipFill>
        <p:spPr>
          <a:xfrm>
            <a:off x="6284880" y="3902040"/>
            <a:ext cx="1792440" cy="1736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0"/>
          <p:cNvSpPr/>
          <p:nvPr/>
        </p:nvSpPr>
        <p:spPr>
          <a:xfrm>
            <a:off x="1143000" y="235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72200" y="2362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3657600" y="41101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10666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324480" y="5867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3" descr="C:\Users\Sedgwick\AppData\Local\Microsoft\Windows\Temporary Internet Files\Content.IE5\X1IG4AF2\MC900436882[1].png"/>
          <p:cNvPicPr/>
          <p:nvPr/>
        </p:nvPicPr>
        <p:blipFill>
          <a:blip r:embed="rId6"/>
          <a:stretch/>
        </p:blipFill>
        <p:spPr>
          <a:xfrm>
            <a:off x="1143000" y="40384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C:\Users\Sedgwick\AppData\Local\Microsoft\Windows\Temporary Internet Files\Content.IE5\9TAPI911\MCj04363900000[1].png"/>
          <p:cNvPicPr/>
          <p:nvPr/>
        </p:nvPicPr>
        <p:blipFill>
          <a:blip r:embed="rId1"/>
          <a:stretch/>
        </p:blipFill>
        <p:spPr>
          <a:xfrm>
            <a:off x="1143000" y="3733920"/>
            <a:ext cx="176544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Sedgwick\AppData\Local\Microsoft\Windows\Temporary Internet Files\Content.IE5\6DYSX6KL\MCj02833970000[1].wmf"/>
          <p:cNvPicPr/>
          <p:nvPr/>
        </p:nvPicPr>
        <p:blipFill>
          <a:blip r:embed="rId2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:\Users\Sedgwick\AppData\Local\Microsoft\Windows\Temporary Internet Files\Content.IE5\6DYSX6KL\MCj04241560000[1].wmf"/>
          <p:cNvPicPr/>
          <p:nvPr/>
        </p:nvPicPr>
        <p:blipFill>
          <a:blip r:embed="rId3"/>
          <a:stretch/>
        </p:blipFill>
        <p:spPr>
          <a:xfrm>
            <a:off x="1327320" y="609480"/>
            <a:ext cx="1110960" cy="1835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:\Users\Sedgwick\AppData\Local\Microsoft\Windows\Temporary Internet Files\Content.IE5\6DYSX6KL\MCj02320480000[1].wmf"/>
          <p:cNvPicPr/>
          <p:nvPr/>
        </p:nvPicPr>
        <p:blipFill>
          <a:blip r:embed="rId4"/>
          <a:stretch/>
        </p:blipFill>
        <p:spPr>
          <a:xfrm>
            <a:off x="6595920" y="3733920"/>
            <a:ext cx="148140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:\Users\Sedgwick\AppData\Local\Microsoft\Windows\Temporary Internet Files\Content.IE5\IP6KVSN2\MCj03891760000[1].wmf"/>
          <p:cNvPicPr/>
          <p:nvPr/>
        </p:nvPicPr>
        <p:blipFill>
          <a:blip r:embed="rId5"/>
          <a:stretch/>
        </p:blipFill>
        <p:spPr>
          <a:xfrm>
            <a:off x="6324480" y="609480"/>
            <a:ext cx="1935360" cy="18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C:\Users\Sedgwick\AppData\Local\Microsoft\Windows\Temporary Internet Files\Content.IE5\6DYSX6KL\MCj04368960000[1].png"/>
          <p:cNvPicPr/>
          <p:nvPr/>
        </p:nvPicPr>
        <p:blipFill>
          <a:blip r:embed="rId6"/>
          <a:stretch/>
        </p:blipFill>
        <p:spPr>
          <a:xfrm>
            <a:off x="3714840" y="205740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24" name="TextBox 9"/>
          <p:cNvSpPr/>
          <p:nvPr/>
        </p:nvSpPr>
        <p:spPr>
          <a:xfrm>
            <a:off x="10666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6324480" y="26668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3619440" y="38815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1066680" y="56340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3"/>
          <p:cNvSpPr/>
          <p:nvPr/>
        </p:nvSpPr>
        <p:spPr>
          <a:xfrm>
            <a:off x="6324480" y="571032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C:\Users\Sedgwick\AppData\Local\Microsoft\Windows\Temporary Internet Files\Content.IE5\53FYB3GW\MCj02833990000[1].wmf"/>
          <p:cNvPicPr/>
          <p:nvPr/>
        </p:nvPicPr>
        <p:blipFill>
          <a:blip r:embed="rId1"/>
          <a:stretch/>
        </p:blipFill>
        <p:spPr>
          <a:xfrm>
            <a:off x="3878280" y="152280"/>
            <a:ext cx="13874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Users\Sedgwick\AppData\Local\Microsoft\Windows\Temporary Internet Files\Content.IE5\6DYSX6KL\MCj03826120000[1].jpg"/>
          <p:cNvPicPr/>
          <p:nvPr/>
        </p:nvPicPr>
        <p:blipFill>
          <a:blip r:embed="rId2"/>
          <a:stretch/>
        </p:blipFill>
        <p:spPr>
          <a:xfrm>
            <a:off x="6095880" y="563400"/>
            <a:ext cx="2305080" cy="164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Users\Sedgwick\AppData\Local\Microsoft\Windows\Temporary Internet Files\Content.IE5\53FYB3GW\MCj04134780000[1].wmf"/>
          <p:cNvPicPr/>
          <p:nvPr/>
        </p:nvPicPr>
        <p:blipFill>
          <a:blip r:embed="rId3"/>
          <a:stretch/>
        </p:blipFill>
        <p:spPr>
          <a:xfrm>
            <a:off x="1066680" y="579600"/>
            <a:ext cx="1809720" cy="1554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Sedgwick\AppData\Local\Microsoft\Windows\Temporary Internet Files\Content.IE5\IP6KVSN2\MCj02351990000[1].wmf"/>
          <p:cNvPicPr/>
          <p:nvPr/>
        </p:nvPicPr>
        <p:blipFill>
          <a:blip r:embed="rId4"/>
          <a:stretch/>
        </p:blipFill>
        <p:spPr>
          <a:xfrm>
            <a:off x="3556080" y="2133720"/>
            <a:ext cx="203184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C:\Users\Sedgwick\AppData\Local\Microsoft\Windows\Temporary Internet Files\Content.IE5\IP6KVSN2\MCj04363760000[1].png"/>
          <p:cNvPicPr/>
          <p:nvPr/>
        </p:nvPicPr>
        <p:blipFill>
          <a:blip r:embed="rId5"/>
          <a:stretch/>
        </p:blipFill>
        <p:spPr>
          <a:xfrm>
            <a:off x="1028880" y="3886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Sedgwick\AppData\Local\Microsoft\Windows\Temporary Internet Files\Content.IE5\6DYSX6KL\MCj04326000000[1].png"/>
          <p:cNvPicPr/>
          <p:nvPr/>
        </p:nvPicPr>
        <p:blipFill>
          <a:blip r:embed="rId6"/>
          <a:stretch/>
        </p:blipFill>
        <p:spPr>
          <a:xfrm>
            <a:off x="6324480" y="3886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90720" y="2438280"/>
            <a:ext cx="190476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6324480" y="2438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3619440" y="4114800"/>
            <a:ext cx="190512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990720" y="5715000"/>
            <a:ext cx="1904760" cy="46188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12"/>
          <p:cNvSpPr/>
          <p:nvPr/>
        </p:nvSpPr>
        <p:spPr>
          <a:xfrm>
            <a:off x="6324480" y="5786280"/>
            <a:ext cx="1905120" cy="462240"/>
          </a:xfrm>
          <a:prstGeom prst="rect">
            <a:avLst/>
          </a:prstGeom>
          <a:noFill/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3T14:25:15Z</dcterms:created>
  <dc:creator>Mrs. Sedgwick</dc:creator>
  <dc:description/>
  <dc:language>en-US</dc:language>
  <cp:lastModifiedBy>Meadows Elementary</cp:lastModifiedBy>
  <dcterms:modified xsi:type="dcterms:W3CDTF">2013-02-19T14:45:24Z</dcterms:modified>
  <cp:revision>93</cp:revision>
  <dc:subject>Keyboarding</dc:subject>
  <dc:title>Kindergarten Adventures in Keyboarding</dc:title>
</cp:coreProperties>
</file>